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430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6002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pic>
        <p:nvPicPr>
          <p:cNvPr id="2" name="Picture 8" descr="pie02"/>
          <p:cNvPicPr/>
          <p:nvPr/>
        </p:nvPicPr>
        <p:blipFill>
          <a:blip r:embed="rId2"/>
          <a:stretch/>
        </p:blipFill>
        <p:spPr>
          <a:xfrm>
            <a:off x="0" y="6342120"/>
            <a:ext cx="9144000" cy="51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Rectangle 1"/>
          <p:cNvSpPr/>
          <p:nvPr/>
        </p:nvSpPr>
        <p:spPr>
          <a:xfrm>
            <a:off x="214200" y="1762560"/>
            <a:ext cx="871560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LIBRO PRIMER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DISPOSICIONES SUSTANTIV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TÍTULO PRIMER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DISPOSICIONES GENERAL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CAPÍTULO 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OBJETO, ÁMBITO DE APLICACIÓN Y SUJETOS DE LA LEY</a:t>
            </a:r>
            <a:r>
              <a:rPr b="0" lang="es-MX" sz="3600" spc="-1" strike="noStrike">
                <a:solidFill>
                  <a:srgbClr val="000000"/>
                </a:solidFill>
                <a:latin typeface="Arial"/>
                <a:ea typeface="Arial"/>
              </a:rPr>
              <a:t> </a:t>
            </a:r>
            <a:endParaRPr b="0" lang="en-US" sz="3600" spc="-1" strike="noStrike">
              <a:solidFill>
                <a:srgbClr val="000000"/>
              </a:solidFill>
              <a:latin typeface="Arial"/>
            </a:endParaRPr>
          </a:p>
        </p:txBody>
      </p:sp>
      <p:sp>
        <p:nvSpPr>
          <p:cNvPr id="40"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1 - 4 Ley de Responsabilidades Administrativas del Estado de Michoacán de Ocampo).</a:t>
            </a:r>
            <a:endParaRPr b="0" lang="en-US" sz="2000" spc="-1" strike="noStrike">
              <a:solidFill>
                <a:srgbClr val="000000"/>
              </a:solidFill>
              <a:latin typeface="Arial"/>
            </a:endParaRPr>
          </a:p>
        </p:txBody>
      </p:sp>
      <p:sp>
        <p:nvSpPr>
          <p:cNvPr id="41" name="3 Rectángulo"/>
          <p:cNvSpPr/>
          <p:nvPr/>
        </p:nvSpPr>
        <p:spPr>
          <a:xfrm>
            <a:off x="214200" y="0"/>
            <a:ext cx="8715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LEY DE RESPONSABILIDADES ADMINISTRATIVAS PARA EL ESTADO DE MICHOACÁN DE OCAMP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285840" y="762480"/>
            <a:ext cx="850104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TÍTULO SEGUND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MECANISMOS DE PREVENCIÓN E INSTRUMENTOS DE RENDICIÓN DE CUENT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CAPÍTULO 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MECANISMOS GENERALES DE PREVENCIÓN</a:t>
            </a:r>
            <a:r>
              <a:rPr b="0" lang="es-MX" sz="3600" spc="-1" strike="noStrike">
                <a:solidFill>
                  <a:srgbClr val="000000"/>
                </a:solidFill>
                <a:latin typeface="Arial"/>
                <a:ea typeface="Arial"/>
              </a:rPr>
              <a:t> </a:t>
            </a:r>
            <a:endParaRPr b="0" lang="en-US" sz="3600" spc="-1" strike="noStrike">
              <a:solidFill>
                <a:srgbClr val="000000"/>
              </a:solidFill>
              <a:latin typeface="Arial"/>
            </a:endParaRPr>
          </a:p>
        </p:txBody>
      </p:sp>
      <p:sp>
        <p:nvSpPr>
          <p:cNvPr id="54"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13 - 21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
          <p:cNvSpPr/>
          <p:nvPr/>
        </p:nvSpPr>
        <p:spPr>
          <a:xfrm>
            <a:off x="214200" y="84600"/>
            <a:ext cx="8715600" cy="1694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NOVEN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OS INFORMES DE PRESUNTA RESPONSABILIDAD ADMINISTRATIVA</a:t>
            </a:r>
            <a:endParaRPr b="0" lang="en-US" sz="3500" spc="-1" strike="noStrike">
              <a:solidFill>
                <a:srgbClr val="000000"/>
              </a:solidFill>
              <a:latin typeface="Arial"/>
            </a:endParaRPr>
          </a:p>
        </p:txBody>
      </p:sp>
      <p:sp>
        <p:nvSpPr>
          <p:cNvPr id="181" name="2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194 - 195 Ley de Responsabilidades Administrativas del Estado de Michoacán de Ocampo).</a:t>
            </a:r>
            <a:endParaRPr b="0" lang="en-US" sz="2000" spc="-1" strike="noStrike">
              <a:solidFill>
                <a:srgbClr val="000000"/>
              </a:solidFill>
              <a:latin typeface="Arial"/>
            </a:endParaRPr>
          </a:p>
        </p:txBody>
      </p:sp>
      <p:sp>
        <p:nvSpPr>
          <p:cNvPr id="182" name="Rectangle 2"/>
          <p:cNvSpPr/>
          <p:nvPr/>
        </p:nvSpPr>
        <p:spPr>
          <a:xfrm>
            <a:off x="214200" y="1731960"/>
            <a:ext cx="8643960" cy="3611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l Informe de Presunta Responsabilidad Administrativa será emitido por las Autoridades investigadoras, el cual deberá contener los siguientes elementos: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l nombre de la Autoridad Investigadora;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l domicilio de la Autoridad Investigadora para oír y recibir notificaciones;</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Rectángulo"/>
          <p:cNvSpPr/>
          <p:nvPr/>
        </p:nvSpPr>
        <p:spPr>
          <a:xfrm>
            <a:off x="214200" y="142920"/>
            <a:ext cx="8572680" cy="5943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Calibri"/>
              </a:rPr>
              <a:t>El nombre o nombres de los funcionarios que podrán imponerse de los autos del expediente de responsabilidad administrativa por parte de la Autoridad Investigadora;</a:t>
            </a:r>
            <a:endParaRPr b="0" lang="en-US" sz="3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l nombre y domicilio del servidor público a quien se señale como presunto responsable, así como el Órgano del Estado al que se encuentre adscrito y el cargo que ahí desempeñe; </a:t>
            </a:r>
            <a:endParaRPr b="0" lang="en-US" sz="3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narración lógica y cronológica de los hechos que dieron lugar a la comisión de la presunta Falta Administrat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1 Rectángulo"/>
          <p:cNvSpPr/>
          <p:nvPr/>
        </p:nvSpPr>
        <p:spPr>
          <a:xfrm>
            <a:off x="214200" y="357120"/>
            <a:ext cx="8715600" cy="562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 infracción que se imputa al señalado como presunto responsable, señalando con claridad las razones fundadas y motivadas por las que se considera que ha cometido la falta;</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pruebas que se ofrecerán en el procedimiento de responsabilidad administrativa, para acreditar la comisión de la Falta Administrativa, y la responsabilidad que se atribuye al señalado como presunto responsabl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1 Rectángulo"/>
          <p:cNvSpPr/>
          <p:nvPr/>
        </p:nvSpPr>
        <p:spPr>
          <a:xfrm>
            <a:off x="214200" y="1682640"/>
            <a:ext cx="8643960" cy="222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La solicitud de medidas cautelares, de ser el caso; y, </a:t>
            </a:r>
            <a:endParaRPr b="0" lang="en-US" sz="35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Firma autógrafa de Autoridad Investigadora.</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214200" y="84600"/>
            <a:ext cx="8715600" cy="1694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DÉCIM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A IMPROCEDENCIA Y EL SOBRESEIMIENTO</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187" name="2 Rectángulo"/>
          <p:cNvSpPr/>
          <p:nvPr/>
        </p:nvSpPr>
        <p:spPr>
          <a:xfrm>
            <a:off x="5286240" y="6072120"/>
            <a:ext cx="3821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196 - 197 LRAEM).</a:t>
            </a:r>
            <a:endParaRPr b="0" lang="en-US" sz="2000" spc="-1" strike="noStrike">
              <a:solidFill>
                <a:srgbClr val="000000"/>
              </a:solidFill>
              <a:latin typeface="Arial"/>
            </a:endParaRPr>
          </a:p>
        </p:txBody>
      </p:sp>
      <p:sp>
        <p:nvSpPr>
          <p:cNvPr id="188" name="Rectangle 2"/>
          <p:cNvSpPr/>
          <p:nvPr/>
        </p:nvSpPr>
        <p:spPr>
          <a:xfrm>
            <a:off x="214200" y="1575360"/>
            <a:ext cx="8572680" cy="461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Son causas de improcedencia del procedimiento de responsabilidad administrativa, las siguientes: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Cuando la Falta Administrativa haya prescrito;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Cuando los hechos o las conductas materia del procedimiento no fueran de competencia de las autoridades substanciadoras o resolutoras del asunto.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1 Rectángulo"/>
          <p:cNvSpPr/>
          <p:nvPr/>
        </p:nvSpPr>
        <p:spPr>
          <a:xfrm>
            <a:off x="285840" y="393840"/>
            <a:ext cx="8643960" cy="562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Cuando las Faltas Administrativas que se imputen al presunto responsable ya hubieran sido objeto de una resolución que haya causado ejecutoria pronunciada por las autoridades resolutoras del asunto.</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Cuando de los hechos que se refieran en el Informe de Presunta Responsabilidad Administrativa, no se advierta la comisión de Faltas Administrativas; y,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Cuando se omita acompañar el Informe de Presunta Responsabilidad Administrativa.</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285840" y="59400"/>
            <a:ext cx="8643960" cy="612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Procederá el sobreseimiento en los casos siguientes: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Cuando se actualice o sobrevenga cualquiera de las causas de improcedencia previstas en esta Ley;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Cuando por virtud de una reforma legislativa, la Falta Administrativa que se imputa al presunto responsable haya quedado derogada;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Cuando el señalado como presunto responsable muera durante el procedimiento de responsabilidad administrativa;</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214200" y="48600"/>
            <a:ext cx="8643960" cy="1161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DÉCIMO PRIMER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AS AUDIENCIAS</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192" name="2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198 - 199 Ley de Responsabilidades Administrativas del Estado de Michoacán de Ocampo).</a:t>
            </a:r>
            <a:endParaRPr b="0" lang="en-US" sz="2000" spc="-1" strike="noStrike">
              <a:solidFill>
                <a:srgbClr val="000000"/>
              </a:solidFill>
              <a:latin typeface="Arial"/>
            </a:endParaRPr>
          </a:p>
        </p:txBody>
      </p:sp>
      <p:sp>
        <p:nvSpPr>
          <p:cNvPr id="193" name="Rectangle 2"/>
          <p:cNvSpPr/>
          <p:nvPr/>
        </p:nvSpPr>
        <p:spPr>
          <a:xfrm>
            <a:off x="214200" y="1585800"/>
            <a:ext cx="8643960" cy="3611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audiencias que se realicen en el procedimiento de responsabilidad administrativa, se llevarán de acuerdo con las siguientes reglas: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Serán públicas;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No se permitirá la interrupción de la audiencia por parte de persona alguna.</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1 Rectángulo"/>
          <p:cNvSpPr/>
          <p:nvPr/>
        </p:nvSpPr>
        <p:spPr>
          <a:xfrm>
            <a:off x="214200" y="357120"/>
            <a:ext cx="8715600" cy="596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Quienes actúen como secretarios, bajo la responsabilidad de la autoridad encargada de la dirección de la audiencia, deberán hacer constar el día, lugar y hora en que principie la audiencia, la hora en la que termine, así como el nombre de las partes, peritos, testigos y personas que hubieren intervenido en la misma, dejando constancia de los incidentes que se hubieren desarrollado durante la audiencia.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214200" y="84600"/>
            <a:ext cx="8715600" cy="1694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DÉCIMO SEGUND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AS ACTUACIONES Y RESOLUCIONES</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196" name="2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200 - 207 Ley de Responsabilidades Administrativas del Estado de Michoacán de Ocampo).</a:t>
            </a:r>
            <a:endParaRPr b="0" lang="en-US" sz="2000" spc="-1" strike="noStrike">
              <a:solidFill>
                <a:srgbClr val="000000"/>
              </a:solidFill>
              <a:latin typeface="Arial"/>
            </a:endParaRPr>
          </a:p>
        </p:txBody>
      </p:sp>
      <p:sp>
        <p:nvSpPr>
          <p:cNvPr id="197" name="3 Rectángulo"/>
          <p:cNvSpPr/>
          <p:nvPr/>
        </p:nvSpPr>
        <p:spPr>
          <a:xfrm>
            <a:off x="214200" y="2225520"/>
            <a:ext cx="8715600" cy="26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os expedientes se formarán por las autoridades substanciadoras o, en su caso, resolutoras del asunto con la colaboración de las partes, terceros y quienes intervengan en los procedimientos</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2 Rectángulo"/>
          <p:cNvSpPr/>
          <p:nvPr/>
        </p:nvSpPr>
        <p:spPr>
          <a:xfrm>
            <a:off x="214200" y="0"/>
            <a:ext cx="8643960" cy="630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Para prevenir la comisión de Faltas Administrativas y hechos de corrupción, la Secretaría y los Órganos Internos de Control, considerando las funciones que a cada una de ellas les corresponden y previo diagnóstico que al efecto realicen, podrán implementar acciones para orientar el criterio que en situaciones específicas deberán observar los Servidores Públicos en el desempeño de sus empleos, cargos o comisiones, en coordinación con el Sistema Anticorrupc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214200" y="131040"/>
            <a:ext cx="8715600" cy="612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resoluciones serán: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Acuerdos, cuando se trate de aquellas sobre simples resoluciones de trámite;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Autos provisionales, los que se refieren a determinaciones que se ejecuten provisionalmente;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Autos preparatorios, que son resoluciones por las que se prepara el conocimiento y decisión del asunto, se ordena la admisión, la preparación de pruebas o su desahogo;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Sentencias interlocutorias, que son aquellas que resuelven un incident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
          <p:cNvSpPr/>
          <p:nvPr/>
        </p:nvSpPr>
        <p:spPr>
          <a:xfrm>
            <a:off x="214200" y="1012320"/>
            <a:ext cx="8715600" cy="2761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APÍTULO II</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L PROCEDIMIENTO DE RESPONSABILIDAD ADMINISTRATIVA ANTE LAS SECRETARÍAS Y ÓRGANOS INTERNOS DE CONTROL</a:t>
            </a:r>
            <a:endParaRPr b="0" lang="en-US" sz="3500" spc="-1" strike="noStrike">
              <a:solidFill>
                <a:srgbClr val="000000"/>
              </a:solidFill>
              <a:latin typeface="Arial"/>
            </a:endParaRPr>
          </a:p>
        </p:txBody>
      </p:sp>
      <p:sp>
        <p:nvSpPr>
          <p:cNvPr id="200"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 208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Rectángulo"/>
          <p:cNvSpPr/>
          <p:nvPr/>
        </p:nvSpPr>
        <p:spPr>
          <a:xfrm>
            <a:off x="214200" y="552600"/>
            <a:ext cx="8715600" cy="527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La Autoridad Investigadora deberá presentar ante la Autoridad Substanciadora el Informe de Presunta Responsabilidad Administrativa, la cual, dentro de los tres días siguientes se pronunciará sobre su admisión, pudiendo prevenir a la Autoridad Investigadora para que en un término de tres días hábiles subsane las omisiones que advierta, o que aclare los hechos narrados en el inform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1 Rectángulo"/>
          <p:cNvSpPr/>
          <p:nvPr/>
        </p:nvSpPr>
        <p:spPr>
          <a:xfrm>
            <a:off x="214200" y="571680"/>
            <a:ext cx="8643960" cy="527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Una vez trascurrido el periodo de alegatos, la Autoridad Resolutora del asunto, de oficio, declarará cerrada la instrucción y citará a las partes para oír la resolución que corresponda, la cual deberá dictarse en un plazo no mayor a treinta días hábiles, el cual podrá ampliarse por una sola vez por otros treinta días hábiles más, cuando la complejidad del asunto así lo requiera, debiendo expresar los motivos para ell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
          <p:cNvSpPr/>
          <p:nvPr/>
        </p:nvSpPr>
        <p:spPr>
          <a:xfrm>
            <a:off x="214200" y="1226520"/>
            <a:ext cx="8715600" cy="2761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APÍTULO III</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L PROCEDIMIENTO DE RESPONSABILIDAD ADMINISTRATIVA CUYA RESOLUCIÓN CORRESPONDA A LOS TRIBUNALES</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204"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 209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
          <p:cNvSpPr/>
          <p:nvPr/>
        </p:nvSpPr>
        <p:spPr>
          <a:xfrm>
            <a:off x="214200" y="-11160"/>
            <a:ext cx="8715600" cy="643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Calibri"/>
              </a:rPr>
              <a:t>Procederán conforme a lo dispuesto en las siguientes fracciones:</a:t>
            </a:r>
            <a:endParaRPr b="0" lang="en-US" sz="3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Calibri"/>
              </a:rPr>
              <a:t>A más tardar dentro de los tres días hábiles siguientes de haber concluido la Audiencia Inicial, la Autoridad Substanciadora deberá, bajo su responsabilidad, enviar al Tribunal competente los autos originales del expediente.</a:t>
            </a:r>
            <a:endParaRPr b="0" lang="en-US" sz="3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Calibri"/>
              </a:rPr>
              <a:t>Cuando el Tribunal reciba el expediente, bajo su más estricta responsabilidad, deberá verificar que la falta descrita en el Informe de Presunta Responsabilidad Administrativa sea de las consideradas como gr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
          <p:cNvSpPr/>
          <p:nvPr/>
        </p:nvSpPr>
        <p:spPr>
          <a:xfrm>
            <a:off x="214200" y="30960"/>
            <a:ext cx="8715600" cy="612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De igual forma, de advertir el Tribunal que los hechos descritos por la Autoridad Investigadora en el Informe de Presunta Responsabilidad Administrativa corresponden a la descripción de una falta grave diversa, le ordenará a ésta realice la reclasificación que corresponda.</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n caso de que la Autoridad Investigadora se niegue a hacer la reclasificación, bajo su más estricta responsabilidad así lo hará saber al Tribunal fundando y motivando su proceder.</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
          <p:cNvSpPr/>
          <p:nvPr/>
        </p:nvSpPr>
        <p:spPr>
          <a:xfrm>
            <a:off x="214200" y="30960"/>
            <a:ext cx="8643960" cy="612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Una vez que el Tribunal haya decidido que el asunto corresponde a su competencia.</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Cuando conste en autos que las partes han quedado notificadas, dictará dentro de los quince días hábiles siguientes el acuerdo de admisión de pruebas que corresponda.</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Concluido el desahogo de las pruebas ofrecidas por las partes, y si no existieran diligencias pendientes para mejor proveer o más pruebas que desahogar, el Tribunal declarará abierto el periodo de alegatos por un término de cinco días hábiles.</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
          <p:cNvSpPr/>
          <p:nvPr/>
        </p:nvSpPr>
        <p:spPr>
          <a:xfrm>
            <a:off x="285840" y="-11160"/>
            <a:ext cx="8643960" cy="643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Calibri"/>
              </a:rPr>
              <a:t>Una vez trascurrido el periodo de alegatos, el Tribunal, de oficio, declarará cerrada la instrucción y citará a las partes para oír la resolución que corresponda, la cual deberá dictarse en un plazo no mayor a treinta días hábiles, el cual podrá ampliarse por una sola vez por otros treinta días hábiles má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Calibri"/>
              </a:rPr>
              <a:t>La resolución, deberá notificarse personalmente al presunto responsable. En su caso, se notificará a los denunciantes únicamente para su conocimiento, y al jefe inmediato o al titular de la dependencia o ent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
          <p:cNvSpPr/>
          <p:nvPr/>
        </p:nvSpPr>
        <p:spPr>
          <a:xfrm>
            <a:off x="214200" y="1870560"/>
            <a:ext cx="8643960" cy="1694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PRIMER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OS RECURSOS DE LA REVOCACIÓN</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210"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 210 - 213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2 Rectángulo"/>
          <p:cNvSpPr/>
          <p:nvPr/>
        </p:nvSpPr>
        <p:spPr>
          <a:xfrm>
            <a:off x="214200" y="642960"/>
            <a:ext cx="857268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Los Servidores Públicos deberán observar el Código de Ética que al efecto sea emitido por la Secretaría o los Órganos Internos de Control, conforme a los lineamientos que emita el Sistema Anticorrupción, para que en su actuación impere una conducta digna que responda a las necesidades de la sociedad y que oriente su desempeñ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1 Rectángulo"/>
          <p:cNvSpPr/>
          <p:nvPr/>
        </p:nvSpPr>
        <p:spPr>
          <a:xfrm>
            <a:off x="285840" y="428760"/>
            <a:ext cx="8643960" cy="562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os Servidores Públicos que resulten responsables por la comisión de Faltas Administrativas no graves en los términos de las resoluciones administrativas que se dicten conforme a lo dispuesto en el presente Título por la Autoridad Resolutora, podrán interponer el recurso de revocación ante la autoridad que emitió la resolución dentro de los quince días hábiles siguientes a la fecha en que surta efectos la notificación respectiva.</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285840" y="120240"/>
            <a:ext cx="8572320" cy="1161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SEGUND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A RECLAMACIÓN</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213" name="3 Rectángulo"/>
          <p:cNvSpPr/>
          <p:nvPr/>
        </p:nvSpPr>
        <p:spPr>
          <a:xfrm>
            <a:off x="4857840" y="5929200"/>
            <a:ext cx="3929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 213 - 214 LRAEM).</a:t>
            </a:r>
            <a:endParaRPr b="0" lang="en-US" sz="2000" spc="-1" strike="noStrike">
              <a:solidFill>
                <a:srgbClr val="000000"/>
              </a:solidFill>
              <a:latin typeface="Arial"/>
            </a:endParaRPr>
          </a:p>
        </p:txBody>
      </p:sp>
      <p:sp>
        <p:nvSpPr>
          <p:cNvPr id="214" name="3 Rectángulo"/>
          <p:cNvSpPr/>
          <p:nvPr/>
        </p:nvSpPr>
        <p:spPr>
          <a:xfrm>
            <a:off x="214200" y="1285920"/>
            <a:ext cx="871560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El recurso de reclamación procederá en contra de las resoluciones de las Autoridades substanciadoras o resolutoras que admitan, desechen o tengan por no presentado el Informe de Presunta Responsabilidad Administrativa, la contestación o alguna prueba; las que decreten o nieguen el sobreseimiento del procedimiento de responsabilidad administrativa antes del cierre de instru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214200" y="833400"/>
            <a:ext cx="8643960" cy="3295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APÍTULO V (SIC)</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A EJECUCIÓN</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PRIMER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UMPLIMIENTO Y EJECUCIÓN DE SANCIONES POR FALTAS ADMINISTRATIVAS NO GRAVES</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216"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 215 - 216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285840" y="426960"/>
            <a:ext cx="8572320" cy="5119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 ejecución de las sanciones por Faltas Administrativas no graves se llevará a cabo de inmediato, una vez que sean impuestas por las Secretarías o los Órganos Internos de Control, y conforme se disponga en la resolución respectiva. </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Tratándose de los Servidores Públicos de base, la suspensión y la destitución se ejecutarán por el titular del Órgano del Estado correspondiente.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214200" y="1298160"/>
            <a:ext cx="8715600" cy="2761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SEGUND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UMPLIMIENTO Y EJECUCIÓN DE SANCIONES POR FALTAS ADMINISTRATIVAS GRAVES Y FALTAS DE PARTICULARES</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219"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 217 - 222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1 Rectángulo"/>
          <p:cNvSpPr/>
          <p:nvPr/>
        </p:nvSpPr>
        <p:spPr>
          <a:xfrm>
            <a:off x="285840" y="714240"/>
            <a:ext cx="8572320" cy="511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sanciones económicas impuestas por los Tribunales constituirán créditos fiscales a favor de la Hacienda Pública Estatal o Municipal, o del Patrimonio de los Órganos del Estado, según corresponda. Dichos créditos fiscales se harán efectivos mediante el procedimiento administrativo de ejecución, por la Secretaría de Finanzas y Administración, a la que será notificada la resolución emitida por el Tribunal respectiv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1 Rectángulo"/>
          <p:cNvSpPr/>
          <p:nvPr/>
        </p:nvSpPr>
        <p:spPr>
          <a:xfrm>
            <a:off x="214200" y="695160"/>
            <a:ext cx="8643960" cy="46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Cuando haya causado ejecutoria una sentencia en la que se determine la plena responsabilidad de un Servidor Público por faltas administrativas graves, el Magistrado, sin que sea necesario que medie petición de parte y sin demora alguna, girará oficio por el que comunicará la sentencia respectiva así como los puntos resolutivos de ésta para su cumplimient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214200" y="2870280"/>
            <a:ext cx="864396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T R A N S I T O R I O 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Rectángulo"/>
          <p:cNvSpPr/>
          <p:nvPr/>
        </p:nvSpPr>
        <p:spPr>
          <a:xfrm>
            <a:off x="214200" y="2143080"/>
            <a:ext cx="864396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MUCHAS GRACIAS POR SU ATENCIÓN</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Tel. 01 (443) 3108325</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01 (443) 3108300 Ext. 1040</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P. Lenin Soto Roque</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3 Rectángulo"/>
          <p:cNvSpPr/>
          <p:nvPr/>
        </p:nvSpPr>
        <p:spPr>
          <a:xfrm>
            <a:off x="108000" y="5670720"/>
            <a:ext cx="8785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Arial"/>
              </a:rPr>
              <a:t>(Artículos 22 – 23 de la Ley de Responsabilidades Administrativas del Estado de Ocampo).</a:t>
            </a:r>
            <a:endParaRPr b="0" lang="en-US" sz="2400" spc="-1" strike="noStrike">
              <a:solidFill>
                <a:srgbClr val="000000"/>
              </a:solidFill>
              <a:latin typeface="Arial"/>
            </a:endParaRPr>
          </a:p>
        </p:txBody>
      </p:sp>
      <p:sp>
        <p:nvSpPr>
          <p:cNvPr id="58" name="Rectangle 3"/>
          <p:cNvSpPr/>
          <p:nvPr/>
        </p:nvSpPr>
        <p:spPr>
          <a:xfrm>
            <a:off x="1143000" y="78480"/>
            <a:ext cx="728676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CAPÍTULO 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INTEGRIDAD DE LAS PERSONAS MORALES</a:t>
            </a:r>
            <a:endParaRPr b="0" lang="en-US" sz="3600" spc="-1" strike="noStrike">
              <a:solidFill>
                <a:srgbClr val="000000"/>
              </a:solidFill>
              <a:latin typeface="Arial"/>
            </a:endParaRPr>
          </a:p>
        </p:txBody>
      </p:sp>
      <p:sp>
        <p:nvSpPr>
          <p:cNvPr id="59" name="3 Rectángulo"/>
          <p:cNvSpPr/>
          <p:nvPr/>
        </p:nvSpPr>
        <p:spPr>
          <a:xfrm>
            <a:off x="214200" y="1714680"/>
            <a:ext cx="8572680" cy="41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personas morales serán sancionadas en los términos de esta ley cuando los actos vinculados con Faltas Administrativas graves, sean realizados por personas físicas que actúen a su nombre o representación de la persona moral y pretendan obtener mediante tales conductas beneficios para dicha persona moral.</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500040" y="445680"/>
            <a:ext cx="814392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CAPÍTULO I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INSTRUMENTOS DE RENDICIÓN DE CUENT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SECCIÓN PRIMER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SISTEMA DE EVOLUCIÓN PATRIMONIAL, DE DECLARACIÓN DE INTERESES Y CONSTANCIA DE PRESENTACIÓN DE DECLARACIÓN FISCAL</a:t>
            </a:r>
            <a:endParaRPr b="0" lang="en-US" sz="3600" spc="-1" strike="noStrike">
              <a:solidFill>
                <a:srgbClr val="000000"/>
              </a:solidFill>
              <a:latin typeface="Arial"/>
            </a:endParaRPr>
          </a:p>
        </p:txBody>
      </p:sp>
      <p:sp>
        <p:nvSpPr>
          <p:cNvPr id="61" name="4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24 - 31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4 Rectángulo"/>
          <p:cNvSpPr/>
          <p:nvPr/>
        </p:nvSpPr>
        <p:spPr>
          <a:xfrm>
            <a:off x="285840" y="71280"/>
            <a:ext cx="864396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La Secretaría Ejecutiva del Sistema Estatal, llevará el sistema de evolución patrimonial, de declaración de intereses y constancia de presentación de declaración fiscal, a través de la plataforma digital que al efecto se establezca, de conformidad con lo previsto en la Ley General del Sistema Nacional Anticorrupción, así como las bases, principios y lineamientos que apruebe el Comit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4 Rectángulo"/>
          <p:cNvSpPr/>
          <p:nvPr/>
        </p:nvSpPr>
        <p:spPr>
          <a:xfrm>
            <a:off x="214200" y="0"/>
            <a:ext cx="8715600" cy="649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La información prevista en el sistema de evolución patrimonial, de declaración de intereses y de constancias de presentación de declaración fiscal se almacenará en la Plataforma digital que contendrá la información que para efectos de las funciones del Sistema Anticorrupción, generen los Órganos de Gobierno facultados para la fiscalización y control de recursos públicos y la prevención, control, detección, sanción y disuasión de Faltas Administrativa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214200" y="251280"/>
            <a:ext cx="8715600" cy="558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El servidor público que así lo determine, podrá hacer pública la totalidad de su declaración patrimonial. Los declarantes podrán incluir la información de sus cónyuges y dependientes económicos directos, siempre que cuenten con la autorización expresa del titular de la información.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La versión pública de la declaración de intereses estará disponible al públic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214200" y="374040"/>
            <a:ext cx="871560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El Comité emitirá los formatos para la presentación de las declaraciones patrimonial, de intereses y de constancia de presentación de declaración fiscal.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Las declaraciones patrimoniales y de intereses serán públicas salvo los rubros cuya publicidad pueda afectar la vida privada o los datos personales protegidos por la Constitu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214200" y="32040"/>
            <a:ext cx="8715600" cy="630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La Secretaría y los Órganos Ínternos de control, según sea el caso, deberán realizar una verificación aleatoria de las declaraciones patrimoniales que obren en el sistema de evolución patrimonial y de declaración de intereses, así como constancia de presentación de declaración fiscal. De no existir ninguna irregularidad expedirán la certificación correspondiente, la cual se anotará en dicho sistema. En caso contrario, iniciarán la investigación que correspond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2 Rectángulo"/>
          <p:cNvSpPr/>
          <p:nvPr/>
        </p:nvSpPr>
        <p:spPr>
          <a:xfrm>
            <a:off x="214200" y="-142920"/>
            <a:ext cx="864396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La presente Ley es de orden público y de observancia general en el Estado de Michoacán de Ocampo, y tiene por objeto establecer las responsabilidades administrativas de los Servidores Públicos, sus obligaciones, las sanciones aplicables por los actos u omisiones en que estos incurran y las que correspondan a los particulares vinculados con Faltas Administrativas graves, así como los procedimientos para su aplica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14200" y="7560"/>
            <a:ext cx="8715600" cy="624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SECCIÓN SEGUND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SUJETOS OBLIGADOS A PRESENTAR DECLARACIÓN PATRIMONIAL Y DE INTERESES</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Estarán obligados a presentar las declaraciones de situación patrimonial y de intereses, bajo protesta de decir verdad y ante la Secretaría o su respectivo órgano interno de control, a través del sistema de evolución patrimonial y de declaración de intereses, </a:t>
            </a:r>
            <a:r>
              <a:rPr b="1" lang="es-MX" sz="3200" spc="-1" strike="noStrike">
                <a:solidFill>
                  <a:srgbClr val="000000"/>
                </a:solidFill>
                <a:latin typeface="Arial"/>
                <a:ea typeface="Arial"/>
              </a:rPr>
              <a:t>todos los Servidores Públicos</a:t>
            </a:r>
            <a:r>
              <a:rPr b="0" lang="es-MX" sz="3200" spc="-1" strike="noStrike">
                <a:solidFill>
                  <a:srgbClr val="000000"/>
                </a:solidFill>
                <a:latin typeface="Arial"/>
                <a:ea typeface="Arial"/>
              </a:rPr>
              <a:t>, en los términos previstos en la presente Ley.</a:t>
            </a:r>
            <a:r>
              <a:rPr b="0" lang="es-MX" sz="3600" spc="-1" strike="noStrike">
                <a:solidFill>
                  <a:srgbClr val="000000"/>
                </a:solidFill>
                <a:latin typeface="Arial"/>
                <a:ea typeface="Arial"/>
              </a:rPr>
              <a:t> </a:t>
            </a:r>
            <a:endParaRPr b="0" lang="en-US" sz="3600" spc="-1" strike="noStrike">
              <a:solidFill>
                <a:srgbClr val="000000"/>
              </a:solidFill>
              <a:latin typeface="Arial"/>
            </a:endParaRPr>
          </a:p>
        </p:txBody>
      </p:sp>
      <p:sp>
        <p:nvSpPr>
          <p:cNvPr id="68" name="5 Rectángulo"/>
          <p:cNvSpPr/>
          <p:nvPr/>
        </p:nvSpPr>
        <p:spPr>
          <a:xfrm>
            <a:off x="6072120" y="6072120"/>
            <a:ext cx="32860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 32 de la LRA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214200" y="1508040"/>
            <a:ext cx="871560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SECCIÓN TERCER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PLAZOS Y MECANISMOS DE REGISTRO AL SISTEMA DE EVOLUCIÓN PATRIMONIAL Y DE DECLARACIÓN DE INTERESES</a:t>
            </a:r>
            <a:r>
              <a:rPr b="0" lang="es-MX" sz="3600" spc="-1" strike="noStrike">
                <a:solidFill>
                  <a:srgbClr val="000000"/>
                </a:solidFill>
                <a:latin typeface="Arial"/>
                <a:ea typeface="Arial"/>
              </a:rPr>
              <a:t> </a:t>
            </a:r>
            <a:endParaRPr b="0" lang="en-US" sz="3600" spc="-1" strike="noStrike">
              <a:solidFill>
                <a:srgbClr val="000000"/>
              </a:solidFill>
              <a:latin typeface="Arial"/>
            </a:endParaRPr>
          </a:p>
        </p:txBody>
      </p:sp>
      <p:sp>
        <p:nvSpPr>
          <p:cNvPr id="70" name="4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33 - 42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285840" y="109800"/>
            <a:ext cx="864396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La declaración de situación patrimonial deberá presentarse en los siguientes plazos: </a:t>
            </a:r>
            <a:endParaRPr b="0" lang="en-US" sz="3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Declaración inicial, dentro de los cuarenta días hábiles siguientes a la toma de posesión con motivo del: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a) Ingreso al servicio público por primera vez;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b) Reingreso al servicio público después de sesenta días naturales de la conclusión de su último encarg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4 Rectángulo"/>
          <p:cNvSpPr/>
          <p:nvPr/>
        </p:nvSpPr>
        <p:spPr>
          <a:xfrm>
            <a:off x="214200" y="142920"/>
            <a:ext cx="87156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Declaración de modificación patrimonial, durante el mes de mayo; y,</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Declaración de conclusión del encargo, dentro de los cuarenta días hábiles siguientes.</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En el caso de cambio de dependencia o entidad en el mismo orden de Gobierno, únicamente se dará aviso de dicha situación y no será necesario presentar la declaración de conclus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1 Rectángulo"/>
          <p:cNvSpPr/>
          <p:nvPr/>
        </p:nvSpPr>
        <p:spPr>
          <a:xfrm>
            <a:off x="285840" y="1285920"/>
            <a:ext cx="8572320" cy="371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La Secretaría o los Órganos Internos de Control, según corresponda, podrán solicitar a los Servidores Públicos una copia de la declaración fiscal, la cual deberá ser remitida en un plazo de quince días hábiles a partir de la fecha en que se reciba la solicitu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1 Rectángulo"/>
          <p:cNvSpPr/>
          <p:nvPr/>
        </p:nvSpPr>
        <p:spPr>
          <a:xfrm>
            <a:off x="285840" y="511200"/>
            <a:ext cx="8643960" cy="489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Si transcurridos los plazos a que se refieren los párrafos anteriores, no se hubiese presentado la declaración correspondiente sin causa justificada, se iniciará inmediatamente la investigación por probable responsabilidad por la comisión de las Faltas Administrativas correspondientes y se requerirá por escrito el cumplimiento de dicha obligación.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1 Rectángulo"/>
          <p:cNvSpPr/>
          <p:nvPr/>
        </p:nvSpPr>
        <p:spPr>
          <a:xfrm>
            <a:off x="285840" y="142920"/>
            <a:ext cx="86439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Para el caso de omisión, sin causa justificada, en la presentación de la declaración de conclusión del encargo, se inhabilitará al infractor de tres meses a un año.</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Las declaraciones de situación patrimonial deberán ser presentadas a través de medios electrónicos, empleándose medios de identificación electrón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1 Rectángulo"/>
          <p:cNvSpPr/>
          <p:nvPr/>
        </p:nvSpPr>
        <p:spPr>
          <a:xfrm>
            <a:off x="285840" y="285840"/>
            <a:ext cx="8572320" cy="542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En el caso de municipios que no cuenten con las tecnologías de la información y comunicación necesarias para cumplir con lo anterior, podrán emplearse formatos impresos, siendo responsabilidad de los Órganos Internos de Control y la Secretaría verificar que dichos formatos sean digitalizados e incluidos en el sistema, de evolución patrimonial y de declaración de interes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285840" y="82440"/>
            <a:ext cx="8429400" cy="5962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Asimismo, el Comité emitirá las normas y los formatos impresos; de medios magnéticos y electrónicos, bajo los cuales los Servidores Públicos deberán presentar las declaraciones de situación patrimonial.</a:t>
            </a:r>
            <a:endParaRPr b="0" lang="en-US" sz="3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El Comité expedirá las normas necesarias para determinar qué Servidores Públicos tendrán acceso a las declaraciones de situación patrimonial y su contenido.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214200" y="725760"/>
            <a:ext cx="8572680" cy="4895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En los casos en que la declaración de situación patrimonial del Servidor Público refleje un incremento en su patrimonio que no sea explicable o justificable en virtud de su remuneración como Servidor Público, la Secretaría y los Órganos Internos de Control inmediatamente solicitarán sea aclarado el origen de dicho enriquecimiento.</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214200" y="251280"/>
            <a:ext cx="8715600" cy="558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Son objeto de la presente Ley: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Establecer los principios y obligaciones que rigen la actuación de los Servidores Públicos;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Establecer las Faltas Administrativas graves y no graves de los Servidores Públicos, las sanciones aplicables a las mismas, así como los procedimientos para su aplicación y las facultades de las autoridades competentes para tal efect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
          <p:cNvSpPr/>
          <p:nvPr/>
        </p:nvSpPr>
        <p:spPr>
          <a:xfrm>
            <a:off x="285840" y="1773360"/>
            <a:ext cx="857232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SECCIÓN CUART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RÉGIMEN DE LOS SERVIDORES PÚBLICOS QUE PARTICIPAN EN CONTRATACIONES PÚBLICAS</a:t>
            </a:r>
            <a:r>
              <a:rPr b="0" lang="es-MX" sz="3600" spc="-1" strike="noStrike">
                <a:solidFill>
                  <a:srgbClr val="000000"/>
                </a:solidFill>
                <a:latin typeface="Arial"/>
                <a:ea typeface="Arial"/>
              </a:rPr>
              <a:t> </a:t>
            </a:r>
            <a:endParaRPr b="0" lang="en-US" sz="3600" spc="-1" strike="noStrike">
              <a:solidFill>
                <a:srgbClr val="000000"/>
              </a:solidFill>
              <a:latin typeface="Arial"/>
            </a:endParaRPr>
          </a:p>
        </p:txBody>
      </p:sp>
      <p:sp>
        <p:nvSpPr>
          <p:cNvPr id="80" name="4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43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a:off x="214200" y="963720"/>
            <a:ext cx="8643960" cy="4480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Calibri"/>
              </a:rPr>
              <a:t>La Plataforma digital estatal incluirá, en un sistema específico, los nombres y adscripción de los Servidores Públicos que intervengan en procedimientos para contrataciones públicas, ya sea en la tramitación, atención y resolución para la adjudicación de un contrato, otorgamiento de una concesión, licencia, permiso o autorización y sus prórrogas, el cual será actualizado quincenal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285840" y="1870560"/>
            <a:ext cx="8643960" cy="1694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QUINT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L PROTOCOLO DE ACTUACIÓN EN CONTRATACIONES</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83" name="4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44 - 45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285840" y="31680"/>
            <a:ext cx="8429400" cy="6430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El Comité expedirá el Protocolo de Actuación que la Secretaría y los Órganos Internos de Control implementarán.</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Dicho Protocolo de Actuación deberá ser cumplido por los Servidores Públicos inscritos en el sistema específico de la plataforma digital estatal.</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El sistema específico de la plataforma digital estatal a que se refiere la presente Ley incluirá la relación de particulares, personas físicas y morales, que se encuentren inhabilitados para celebrar contratos con los Órganos del Es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285840" y="2192040"/>
            <a:ext cx="8643960" cy="1161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SEXT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A DECLARACIÓN DE INTERESES</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86" name="4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46 - 48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285840" y="253800"/>
            <a:ext cx="8643960" cy="5788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Se encuentran obligados a presentar Declaración de Intereses todos los Servidores Públicos que deban presentar la Declaración Patrimonial en términos de esta Ley.</a:t>
            </a:r>
            <a:endParaRPr b="0" lang="en-US" sz="3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Al efecto, la Secretaría y los Órganos Internos de Control se encargarán de que las declaraciones sean integradas al sistema de evolución patrimonial, de declaración de intereses y constancia de presentación de declaración fiscal.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285840" y="86400"/>
            <a:ext cx="8429400" cy="612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 declaración de intereses tendrá por objeto informar y determinar el conjunto de intereses de un servidor público a fin de delimitar cuándo éstos entran en conflicto con su función.</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l Comité expedirá las normas y los formatos impresos, así como los medios magnéticos y electrónicos, bajo los cuales los Servidores Públicos deberán presentar la declaración de intereses, además de los manuales e instructivos que indicarán lo que será obligatorio declarar.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285840" y="451080"/>
            <a:ext cx="8572320" cy="4895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TÍTULO TERCERO</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FALTAS ADMINISTRATIVAS DE LOS SERVIDORES PÚBLICOS Y ACTOS DE PARTICULARES VINCULADOS CON FALTAS ADMINISTRATIVAS GRAVES</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APÍTULO I</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FALTAS ADMINISTRATIVAS NO GRAVES DE LOS SERVIDORES PÚBLICOS</a:t>
            </a:r>
            <a:endParaRPr b="0" lang="en-US" sz="3500" spc="-1" strike="noStrike">
              <a:solidFill>
                <a:srgbClr val="000000"/>
              </a:solidFill>
              <a:latin typeface="Arial"/>
            </a:endParaRPr>
          </a:p>
        </p:txBody>
      </p:sp>
      <p:sp>
        <p:nvSpPr>
          <p:cNvPr id="90"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49 - 50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214200" y="32040"/>
            <a:ext cx="8715600" cy="630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Incurrirá en Falta Administrativa no grave el Servidor Público cuyos actos u omisiones incumplan o transgredan lo contenido en las obligaciones siguientes:</a:t>
            </a:r>
            <a:endParaRPr b="0" lang="en-US" sz="3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 </a:t>
            </a:r>
            <a:endParaRPr b="0" lang="en-US" sz="3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Cumplir con las funciones, atribuciones y comisiones encomendadas, observando en su desempeño disciplina y respeto, tanto a los demás Servidores Públicos como a los particulares con los que llegare a tratar, en los términos que se establezcan en el Código de Étic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214200" y="352080"/>
            <a:ext cx="8501040" cy="5788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Denunciar los actos u omisiones que en ejercicio de sus funciones llegare a advertir, que puedan constituir Faltas Administrativas. </a:t>
            </a:r>
            <a:endParaRPr b="0" lang="en-US" sz="3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Atender las instrucciones de sus superiores, siempre que éstas sean acordes con las disposiciones relacionadas con el servicio público.</a:t>
            </a:r>
            <a:endParaRPr b="0" lang="en-US" sz="3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Presentar en tiempo y forma las declaraciones de situación patrimonial y de interes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2 Rectángulo"/>
          <p:cNvSpPr/>
          <p:nvPr/>
        </p:nvSpPr>
        <p:spPr>
          <a:xfrm>
            <a:off x="285840" y="71280"/>
            <a:ext cx="8572320" cy="630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Establecer las sanciones por la comisión de Faltas de Particulares, así como los procedimientos para su aplicación y las facultades de las autoridades competentes para tal efecto;</a:t>
            </a:r>
            <a:endParaRPr b="0" lang="en-US" sz="3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Determinar los mecanismos para la prevención, corrección e investigación de responsabilidades administrativas; y, </a:t>
            </a:r>
            <a:endParaRPr b="0" lang="en-US" sz="3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Crear las bases para que todo Órgano del Estado establezca políticas eficaces de ética pública y responsabilidad en el servicio público.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357120" y="99360"/>
            <a:ext cx="8572680" cy="594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Registrar, integrar, custodiar y cuidar la documentación e información que por razón de su empleo, cargo o comisión, tenga bajo su responsabilidad, e impedir o evitar su uso, divulgación, sustracción, destrucción, ocultamiento o inutilización indebidos; </a:t>
            </a:r>
            <a:endParaRPr b="0" lang="en-US" sz="3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Supervisar que los Servidores Públicos sujetos a su dirección, cumplan con las disposiciones de este artículo; </a:t>
            </a:r>
            <a:endParaRPr b="0" lang="en-US" sz="3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Rendir cuentas sobre el ejercicio de las funciones, en términos de las normas aplicab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285840" y="32040"/>
            <a:ext cx="8643960" cy="630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Colaborar en los procedimientos judiciales y administrativos en los que sea parte; y, </a:t>
            </a:r>
            <a:endParaRPr b="0" lang="en-US" sz="3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Cerciorarse, antes de la celebración de contratos de adquisiciones, arrendamientos o para la enajenación de todo tipo de bienes, prestación de servicios de cualquier naturaleza o la contratación de obra pública o servicios relacionados con ésta, que el particular manifieste bajo protesta de decir verdad que no desempeña empleo, cargo o comisión en el servicio públic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214200" y="80280"/>
            <a:ext cx="8643960" cy="2228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APÍTULO II</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AS FALTAS ADMINISTRATIVAS GRAVES DE LOS SERVIDORES PÚBLICOS</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96" name="3 Rectángulo"/>
          <p:cNvSpPr/>
          <p:nvPr/>
        </p:nvSpPr>
        <p:spPr>
          <a:xfrm>
            <a:off x="357120" y="2654280"/>
            <a:ext cx="8501040" cy="26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conductas previstas en el presente capítulo constituyen Faltas Administrativas graves de los Servidores Públicos, por lo que deberán abstenerse de realizarlas, mediante cualquier acto u omisión.</a:t>
            </a:r>
            <a:endParaRPr b="0" lang="en-US" sz="3300" spc="-1" strike="noStrike">
              <a:solidFill>
                <a:srgbClr val="000000"/>
              </a:solidFill>
              <a:latin typeface="Arial"/>
            </a:endParaRPr>
          </a:p>
        </p:txBody>
      </p:sp>
      <p:sp>
        <p:nvSpPr>
          <p:cNvPr id="97"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51 - 64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1 Rectángulo"/>
          <p:cNvSpPr/>
          <p:nvPr/>
        </p:nvSpPr>
        <p:spPr>
          <a:xfrm>
            <a:off x="285840" y="71280"/>
            <a:ext cx="8572320" cy="612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Incurrirá en cohecho, el Servidor Público que exija, acepte, obtenga o pretenda obtener, por sí o a través de terceros, con motivo de sus funciones, cualquier beneficio no comprendido en su remuneración como Servidor Público, que podría consistir en dinero; valores; bienes muebles o inmuebles, incluso mediante enajenación en precio notoriamente inferior al que se tenga en el mercado y demás beneficios indebidos para sí o para su cónyuge, parientes consanguíneos, parientes civiles.</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285840" y="131040"/>
            <a:ext cx="8643960" cy="612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Cometerá peculado el Servidor Público que autorice, solicite o realice actos para el uso o apropiación para sí o para las personas a las que se refiere el artículo anterior, en contraposición a las normas aplicables.</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Será responsable de desvío de recursos públicos el Servidor Público que autorice, solicite o realice actos para la asignación o desvío de recursos públicos, sean materiales, humanos o financieros, sin fundamento jurídico o en contraposición a las normas aplicables.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214200" y="31680"/>
            <a:ext cx="8715600" cy="6430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Incurre en actuación bajo Conflicto de Interés el Servidor Público que intervenga por motivo de su empleo, cargo o comisión en cualquier forma, en la atención, tramitación o resolución de asuntos en los que tenga interés personal o impedimento legal.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Será responsable de contratación indebida el Servidor Público que autorice cualquier tipo de contratación, así como la selección, nombramiento o designación, de quien se encuentre impedido por disposición legal o inhabilitado por resolución de autoridad competente para ocupar un emple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214200" y="223200"/>
            <a:ext cx="8715600" cy="2228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APÍTULO III</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OS ACTOS DE PARTICULARES VINCULADOS CON FALTAS ADMINISTRATIVAS GRAVES</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102"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65 - 72 Ley de Responsabilidades Administrativas del Estado de Michoacán de Ocampo).</a:t>
            </a:r>
            <a:endParaRPr b="0" lang="en-US" sz="2000" spc="-1" strike="noStrike">
              <a:solidFill>
                <a:srgbClr val="000000"/>
              </a:solidFill>
              <a:latin typeface="Arial"/>
            </a:endParaRPr>
          </a:p>
        </p:txBody>
      </p:sp>
      <p:sp>
        <p:nvSpPr>
          <p:cNvPr id="103" name="3 Rectángulo"/>
          <p:cNvSpPr/>
          <p:nvPr/>
        </p:nvSpPr>
        <p:spPr>
          <a:xfrm>
            <a:off x="214200" y="2714760"/>
            <a:ext cx="8715600" cy="26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os actos de particulares previstos en el presente capítulo se consideran vinculados a Faltas Administrativas graves, por lo que su comisión será sancionada en términos de esta Ley.</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214200" y="59400"/>
            <a:ext cx="8643960" cy="612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Incurrirá en soborno el particular que prometa, ofrezca o entregue cualquier beneficio indebido, a uno o varios Servidores Públicos, directamente o a través de terceros, a cambio de que dichos Servidores Públicos.</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Será responsable de utilización de información falsa el particular que presente documentación o información falsa o alterada, o simulen el cumplimiento de requisitos o reglas establecidos en los procedimientos administrativos.</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214200" y="30960"/>
            <a:ext cx="8643960" cy="612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Será responsable por el uso indebido de recursos públicos el particular que realice actos mediante los cuales se apropie, haga uso indebido o desvíe del objeto para el que estén previstos los recursos públicos, sean materiales, humanos o financieros, cuando por cualquier circunstancia maneje, reciba, administre o tenga acceso a estos recursos. </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También se considera uso indebido de recursos públicos la omisión de rendir cuentas que comprueben el destino que se otorgó a dichos recursos.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
          <p:cNvSpPr/>
          <p:nvPr/>
        </p:nvSpPr>
        <p:spPr>
          <a:xfrm>
            <a:off x="214200" y="1085760"/>
            <a:ext cx="8715600" cy="3611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Será responsable de contratación indebida de ex Servidores Públicos el particular que contrate a quien haya sido servidor público durante el año previo, que posea información privilegiada que directamente haya adquirido con motivo de su empleo, cargo o comisión en el servicio públic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214200" y="-41400"/>
            <a:ext cx="8715600" cy="6496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Para efectos de esta ley se entenderá por:</a:t>
            </a:r>
            <a:endParaRPr b="0" lang="en-US" sz="3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Órganos del Estado</a:t>
            </a:r>
            <a:r>
              <a:rPr b="0" lang="es-MX" sz="3500" spc="-1" strike="noStrike">
                <a:solidFill>
                  <a:srgbClr val="000000"/>
                </a:solidFill>
                <a:latin typeface="Arial"/>
                <a:ea typeface="Arial"/>
              </a:rPr>
              <a:t>: Poderes Ejecutivo, Legislativo y Judicial, Órganos Constitucionales Autónomos y gobiernos municipales, incluyendo en estos últimos y en el Poder Ejecutivo a su administración pública centralizada, paraestatal, desconcentrada y de participación general y todos aquellos en que cualquier autoridad directa o indirectamente intervenga, independiente de la denominación que se les otorgu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
          <p:cNvSpPr/>
          <p:nvPr/>
        </p:nvSpPr>
        <p:spPr>
          <a:xfrm>
            <a:off x="285840" y="1798920"/>
            <a:ext cx="8643960" cy="1694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APÍTULO IV</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AS FALTAS DE PARTICULARES EN SITUACIÓN ESPECIAL</a:t>
            </a:r>
            <a:endParaRPr b="0" lang="en-US" sz="3500" spc="-1" strike="noStrike">
              <a:solidFill>
                <a:srgbClr val="000000"/>
              </a:solidFill>
              <a:latin typeface="Arial"/>
            </a:endParaRPr>
          </a:p>
        </p:txBody>
      </p:sp>
      <p:sp>
        <p:nvSpPr>
          <p:cNvPr id="108"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73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1 Rectángulo"/>
          <p:cNvSpPr/>
          <p:nvPr/>
        </p:nvSpPr>
        <p:spPr>
          <a:xfrm>
            <a:off x="214200" y="307800"/>
            <a:ext cx="8715600" cy="542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Se consideran Faltas de Particulares en situación especial, aquéllas realizadas por candidatos a cargos de elección popular, miembros de equipos de campaña electoral o de transición entre administraciones del sector público, y líderes de sindicatos del sector público, que impliquen exigir, solicitar, aceptar, recibir o pretender recibir alguno de los beneficios a que se refiere esta Ley.</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285840" y="2013480"/>
            <a:ext cx="8643960" cy="1694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APÍTULO V</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A PRESCRIPCIÓN DE LA RESPONSABILIDAD ADMINISTRATIVA</a:t>
            </a:r>
            <a:endParaRPr b="0" lang="en-US" sz="3500" spc="-1" strike="noStrike">
              <a:solidFill>
                <a:srgbClr val="000000"/>
              </a:solidFill>
              <a:latin typeface="Arial"/>
            </a:endParaRPr>
          </a:p>
        </p:txBody>
      </p:sp>
      <p:sp>
        <p:nvSpPr>
          <p:cNvPr id="111"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74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
          <p:cNvSpPr/>
          <p:nvPr/>
        </p:nvSpPr>
        <p:spPr>
          <a:xfrm>
            <a:off x="214200" y="30960"/>
            <a:ext cx="8572680" cy="612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Para el caso de Faltas Administrativas no graves, las facultades de la Secretaría o de los Órganos Internos de Control para imponer las sanciones prescribirán en tres años, contados a partir del día siguiente al que se hubieren cometido las infracciones, o a partir del momento en que hubieren cesado. </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Cuando se trate de Faltas Administrativas graves o Faltas de Particulares, el plazo de prescripción será de siete años, contados en los mismos términos del párrafo anterior.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
          <p:cNvSpPr/>
          <p:nvPr/>
        </p:nvSpPr>
        <p:spPr>
          <a:xfrm>
            <a:off x="214200" y="1369440"/>
            <a:ext cx="8643960" cy="2761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TÍTULO CUARTO</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ANCIONES</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APÍTULO I</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ANCIONES POR FALTAS ADMINISTRATIVAS NO GRAVES</a:t>
            </a:r>
            <a:endParaRPr b="0" lang="en-US" sz="3500" spc="-1" strike="noStrike">
              <a:solidFill>
                <a:srgbClr val="000000"/>
              </a:solidFill>
              <a:latin typeface="Arial"/>
            </a:endParaRPr>
          </a:p>
        </p:txBody>
      </p:sp>
      <p:sp>
        <p:nvSpPr>
          <p:cNvPr id="114"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75 - 77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214200" y="-111240"/>
            <a:ext cx="8715600" cy="6430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En los casos de responsabilidades administrativas distintas a las que son competencia del Tribunal, la Secretaría o los Órganos Internos de Control impondrán las sanciones administrativas siguientes: </a:t>
            </a:r>
            <a:endParaRPr b="0" lang="en-US" sz="3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Amonestación pública o privada; </a:t>
            </a:r>
            <a:endParaRPr b="0" lang="en-US" sz="3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Suspensión del empleo, cargo o comisión; </a:t>
            </a:r>
            <a:endParaRPr b="0" lang="en-US" sz="3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Destitución de su empleo, cargo o comisión; e </a:t>
            </a:r>
            <a:endParaRPr b="0" lang="en-US" sz="3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Inhabilitación temporal para desempeñar empleos, cargos o comisiones en el servicio público y para participar en adquisiciones, arrendamientos, servicios u obras públic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214200" y="30960"/>
            <a:ext cx="8643960" cy="612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 Secretaría y los Órganos Internos de Control podrán imponer una o más de las sanciones administrativas señaladas en este artículo, siempre y cuando sean compatibles entre ellas y de acuerdo a la trascendencia de la Falta Administrativa no grave.</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 suspensión del empleo, cargo o comisión que se imponga podrá ser de uno a treinta días naturales.</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n caso de que se imponga como sanción la inhabilitación temporal, ésta no será menor de tres meses ni podrá exceder de un año.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
          <p:cNvSpPr/>
          <p:nvPr/>
        </p:nvSpPr>
        <p:spPr>
          <a:xfrm>
            <a:off x="214200" y="332280"/>
            <a:ext cx="8715600" cy="5429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Corresponde a la Secretaría o a los Órganos Internos de Control imponer las sanciones por Faltas Administrativas no graves, y ejecutarlas. Los Órganos Internos de Control podrán abstenerse de imponer la sanción que corresponda siempre que el Servidor Público: </a:t>
            </a:r>
            <a:endParaRPr b="0" lang="en-US" sz="3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No haya sido sancionado previamente por la misma Falta Administrativa no grave; y, </a:t>
            </a:r>
            <a:endParaRPr b="0" lang="en-US" sz="3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No haya actuado de forma dolosa.</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214200" y="1941840"/>
            <a:ext cx="8715600" cy="1694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APÍTULO II</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ANCIONES PARA LOS SERVIDORES PÚBLICOS POR FALTAS GRAVES</a:t>
            </a:r>
            <a:endParaRPr b="0" lang="en-US" sz="3500" spc="-1" strike="noStrike">
              <a:solidFill>
                <a:srgbClr val="000000"/>
              </a:solidFill>
              <a:latin typeface="Arial"/>
            </a:endParaRPr>
          </a:p>
        </p:txBody>
      </p:sp>
      <p:sp>
        <p:nvSpPr>
          <p:cNvPr id="119"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78 - 80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14200" y="131040"/>
            <a:ext cx="8643960" cy="612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sanciones administrativas que imponga el Tribunal a los Servidores Públicos, derivado de los procedimientos por la comisión de Faltas Administrativas graves, consistirán en: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Suspensión del empleo, cargo o comisión;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Destitución del empleo, cargo o comisión;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Sanción económica; e,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Inhabilitación temporal para desempeñar empleos, cargos o comisiones en el servicio público y para participar en adquisiciones, arrendamientos, servicios u obras públicas.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214200" y="-63720"/>
            <a:ext cx="8572680" cy="6496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Órganos Internos de Control</a:t>
            </a:r>
            <a:r>
              <a:rPr b="0" lang="es-MX" sz="3500" spc="-1" strike="noStrike">
                <a:solidFill>
                  <a:srgbClr val="000000"/>
                </a:solidFill>
                <a:latin typeface="Arial"/>
                <a:ea typeface="Arial"/>
              </a:rPr>
              <a:t>: Las unidades administrativas a cargo de promover, evaluar y fortalecer el buen funcionamiento del control interno en los Órganos del Estado; </a:t>
            </a:r>
            <a:endParaRPr b="0" lang="en-US" sz="3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Son sujetos de la presente Ley: </a:t>
            </a:r>
            <a:endParaRPr b="0" lang="en-US" sz="3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Los Servidores Públicos; </a:t>
            </a:r>
            <a:endParaRPr b="0" lang="en-US" sz="3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Aquella persona que habiendo fungido como servidor público se ubique en los supuestos a que se refiere la presente Ley; y, Los particulares vinculados con Faltas Administrativas graves.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214200" y="734400"/>
            <a:ext cx="8715600" cy="411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A juicio del Tribunal, podrán ser impuestas al infractor una o más de las sanciones señaladas, siempre y cuando sean compatibles entre ellas y de acuerdo a la gravedad de la Falta Administrativa grave.</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 suspensión del empleo, cargo o comisión que se imponga podrá ser de treinta a noventa días naturales.</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1 Rectángulo"/>
          <p:cNvSpPr/>
          <p:nvPr/>
        </p:nvSpPr>
        <p:spPr>
          <a:xfrm>
            <a:off x="214200" y="357120"/>
            <a:ext cx="8715600" cy="562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n caso de que se determine la inhabilitación, ésta será de uno hasta diez años si el monto de la afectación de la Falta Administrativa grave no excede de doscientas veces el valor diario de la Unidad de Medida y Actualización, y de diez a veinte años si dicho monto excede de dicho límite. Cuando no se cause daños o perjuicios, ni exista beneficio o lucro alguno, se podrán imponer de tres meses a un año de inhabilitación.</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1 Rectángulo"/>
          <p:cNvSpPr/>
          <p:nvPr/>
        </p:nvSpPr>
        <p:spPr>
          <a:xfrm>
            <a:off x="214200" y="401760"/>
            <a:ext cx="8643960" cy="511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n el caso de que la Falta Administrativa grave cometida por el Servidor Público le genere beneficios económicos, a sí mismo o a cualquiera de las personas a que se refiere esta Ley, se le impondrá sanción económica que podrá alcanzar hasta dos tantos de los beneficios obtenidos. En ningún caso la sanción económica que se imponga podrá ser menor o igual al monto de los beneficios económicos obtenidos.</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1 Rectángulo"/>
          <p:cNvSpPr/>
          <p:nvPr/>
        </p:nvSpPr>
        <p:spPr>
          <a:xfrm>
            <a:off x="285840" y="695160"/>
            <a:ext cx="8643960" cy="46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l Tribunal determinará el pago de una indemnización cuando la Falta Administrativa grave a que se refiere el párrafo anterior provocó daños y perjuicios. En dichos casos, el Servidor Público estará obligado a reparar la totalidad de los daños y perjuicios causados y las personas que, en su caso, también hayan obtenido un beneficio indebido, serán solidariamente responsables.</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214200" y="2013480"/>
            <a:ext cx="8643960" cy="1694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APÍTULO III</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ANCIONES POR FALTAS DE PARTICULARES</a:t>
            </a:r>
            <a:endParaRPr b="0" lang="en-US" sz="3500" spc="-1" strike="noStrike">
              <a:solidFill>
                <a:srgbClr val="000000"/>
              </a:solidFill>
              <a:latin typeface="Arial"/>
            </a:endParaRPr>
          </a:p>
        </p:txBody>
      </p:sp>
      <p:sp>
        <p:nvSpPr>
          <p:cNvPr id="126"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81 - 83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214200" y="385200"/>
            <a:ext cx="8715600" cy="5622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sanciones administrativas que deban imponerse por Faltas de Particulares por comisión de alguna de las conductas previstas en esta Ley, consistirán en: </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Tratándose de personas físicas: </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a) Sanción económica que podrá alcanzar hasta dos tantos de los beneficios obtenidos o, en caso de no haberlos obtenido, por el equivalente a la cantidad de cien hasta ciento cincuenta mil veces el valor diario de la Unidad de Medida y Actualización;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214200" y="720720"/>
            <a:ext cx="8643960" cy="5119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b) Inhabilitación temporal para participar en adquisiciones, arrendamientos, servicios u obras públicas, según corresponda, por un periodo que no será menor de tres meses ni mayor de ocho años;</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c) Indemnización por los daños y perjuicios ocasionados a la Hacienda Pública Estatal o Municipal, o al patrimonio de los Órganos del Estado.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279000"/>
            <a:ext cx="8572320" cy="5622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Tratándose de personas morales: </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a) Sanción económica que podrá alcanzar hasta dos tantos de los beneficios obtenidos, en caso de no haberlos obtenido, por el equivalente a la cantidad de mil hasta un millón quinientas mil veces el valor diario de la Unidad de Medida y Actualización; </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b) Inhabilitación temporal para participar en adquisiciones, arrendamientos, servicios u obras públicas, por un periodo que no será menor de tres meses ni mayor de diez años;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1 Rectángulo"/>
          <p:cNvSpPr/>
          <p:nvPr/>
        </p:nvSpPr>
        <p:spPr>
          <a:xfrm>
            <a:off x="285840" y="-71280"/>
            <a:ext cx="8572320" cy="643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 La suspensión de actividades, por un periodo que no será menor de tres meses ni mayor de tres años, la cual consistirá en detener, diferir o privar temporalmente a los particulares de sus actividades comerciales, económicas, contractuales o de negocios por estar vinculados a Faltas Administrativas graves previstas en esta Ley;</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 juicio del Tribunal, podrán ser impuestas al infractor una o más de las sanciones señaladas, siempre que sean compatibles entre ellas y de acuerdo a la gravedad de las Faltas de Particula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214200" y="1584000"/>
            <a:ext cx="8715600" cy="2761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APÍTULO IV</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ISPOSICIONES COMUNES PARA LA IMPOSICIÓN DE SANCIONES POR FALTAS ADMINISTRATIVAS GRAVES Y FALTAS DE PARTICULARES</a:t>
            </a:r>
            <a:endParaRPr b="0" lang="en-US" sz="3500" spc="-1" strike="noStrike">
              <a:solidFill>
                <a:srgbClr val="000000"/>
              </a:solidFill>
              <a:latin typeface="Arial"/>
            </a:endParaRPr>
          </a:p>
        </p:txBody>
      </p:sp>
      <p:sp>
        <p:nvSpPr>
          <p:cNvPr id="132"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84 - 89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357120" y="9720"/>
            <a:ext cx="857268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CAPÍTULO 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PRINCIPIOS Y DIRECTRICES QUE RIGEN LA ACTUACIÓN DE LOS SERVIDORES PÚBLICOS</a:t>
            </a:r>
            <a:r>
              <a:rPr b="0" lang="es-MX" sz="3600" spc="-1" strike="noStrike">
                <a:solidFill>
                  <a:srgbClr val="000000"/>
                </a:solidFill>
                <a:latin typeface="Arial"/>
                <a:ea typeface="Arial"/>
              </a:rPr>
              <a:t> </a:t>
            </a:r>
            <a:endParaRPr b="0" lang="en-US" sz="3600" spc="-1" strike="noStrike">
              <a:solidFill>
                <a:srgbClr val="000000"/>
              </a:solidFill>
              <a:latin typeface="Arial"/>
            </a:endParaRPr>
          </a:p>
        </p:txBody>
      </p:sp>
      <p:sp>
        <p:nvSpPr>
          <p:cNvPr id="48" name="Rectangle 2"/>
          <p:cNvSpPr/>
          <p:nvPr/>
        </p:nvSpPr>
        <p:spPr>
          <a:xfrm>
            <a:off x="214200" y="2119320"/>
            <a:ext cx="8643960" cy="4362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Los Servidores Públicos observarán en el desempeño de su empleo, cargo o comisión, los principios de disciplina, legalidad, objetividad, profesionalismo, honradez, lealtad, imparcialidad, transparencia, institucionalidad, integridad, rendición de cuentas, eficacia y eficiencia que rigen el servicio público. </a:t>
            </a:r>
            <a:endParaRPr b="0" lang="en-US" sz="3500" spc="-1" strike="noStrike">
              <a:solidFill>
                <a:srgbClr val="000000"/>
              </a:solidFill>
              <a:latin typeface="Arial"/>
            </a:endParaRPr>
          </a:p>
        </p:txBody>
      </p:sp>
      <p:sp>
        <p:nvSpPr>
          <p:cNvPr id="49" name="3 Rectángulo"/>
          <p:cNvSpPr/>
          <p:nvPr/>
        </p:nvSpPr>
        <p:spPr>
          <a:xfrm>
            <a:off x="5894280" y="6000840"/>
            <a:ext cx="3321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ea typeface="Arial"/>
              </a:rPr>
              <a:t>(Artículos 5 – 6 de la LRA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214200" y="789480"/>
            <a:ext cx="8715600" cy="461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Para la imposición de las sanciones por Faltas Administrativas graves y Faltas de Particulares, se observarán las siguientes reglas: </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I. La suspensión o la destitución del puesto de los Servidores Públicos, serán impuestas por el Tribunal y ejecutadas por el titular o Servidor Público competente del Órgano del Estado correspondient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1 Rectángulo"/>
          <p:cNvSpPr/>
          <p:nvPr/>
        </p:nvSpPr>
        <p:spPr>
          <a:xfrm>
            <a:off x="214200" y="357120"/>
            <a:ext cx="8643960" cy="562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II. La inhabilitación temporal para desempeñar un empleo, cargo o comisión en el servicio público, y para participar en adquisiciones, arrendamientos, servicios u obras públicas, será impuesta por el Tribunal y ejecutada en los términos de la resolución dictada; y,</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III. Las sanciones económicas serán impuestas por el Tribunal y ejecutadas por la Secretaría de Finanzas y Administración en términos de la legislación aplicabl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14200" y="33120"/>
            <a:ext cx="8715600" cy="6489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ea typeface="Arial"/>
              </a:rPr>
              <a:t>En los casos de sanción económica, el Tribunal ordenará a los responsables el pago que corresponda y, en el caso de daños y perjuicios, adicionalmente el pago de las indemnizaciones correspondientes. Dichas sanciones económicas tendrán el carácter de créditos fiscales.</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ea typeface="Arial"/>
              </a:rPr>
              <a:t>Cuando el Servidor Público o los particulares presuntamente responsables de estar vinculados con una Falta Administrativa grave, desaparezcan o exista riesgo inminente de que oculten, se solicitará a la autoridad competente, en cualquier fase del procedimiento proceda al embargo precautorio de sus bienes, a fin de garantizar el cobro de las sanciones económic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
          <p:cNvSpPr/>
          <p:nvPr/>
        </p:nvSpPr>
        <p:spPr>
          <a:xfrm>
            <a:off x="214200" y="662040"/>
            <a:ext cx="8572680" cy="4362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LIBRO SEGUNDO</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ISPOSICIONES ADJETIVAS</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TÍTULO PRIMERO</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A INVESTIGACIÓN Y CALIFICACIÓN DE LAS FALTAS GRAVES Y NO GRAVES</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APÍTULO I</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INICIO DE LA INVESTIGACIÓN</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137"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90 - 93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641160"/>
            <a:ext cx="8643960" cy="5119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n el curso de toda investigación deberán observarse los principios de legalidad, imparcialidad, objetividad, congruencia, verdad material y respeto a los derechos humanos. Las autoridades competentes serán responsables de la oportunidad, exhaustividad y eficiencia en la investigación, la integralidad de los datos y documentos, así como el resguardo del expediente en su conjunto.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1 Rectángulo"/>
          <p:cNvSpPr/>
          <p:nvPr/>
        </p:nvSpPr>
        <p:spPr>
          <a:xfrm>
            <a:off x="357120" y="428760"/>
            <a:ext cx="8501040" cy="562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Igualmente, incorporarán a sus investigaciones, las técnicas, tecnologías y métodos de investigación que observen las mejores prácticas.</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 investigación por la presunta responsabilidad de Faltas Administrativas iniciará de oficio, por denuncia o derivado de las auditorías practicadas por parte de las autoridades competentes o, en su caso, de auditores externos.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214200" y="173880"/>
            <a:ext cx="8572680" cy="612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denuncias podrán ser anónimas. En su caso, las autoridades investigadoras mantendrán con carácter de confidencial la identidad de las personas que denuncien las presuntas infracciones.</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autoridades investigadoras establecerán áreas de fácil acceso, para que cualquier interesado pueda presentar denuncias por presuntas Faltas Administrativas, de conformidad con los criterios establecidos en la presente Ley.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214200" y="2192040"/>
            <a:ext cx="8643960" cy="1161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APÍTULO II</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A INVESTIGACIÓN</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142"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94 - 101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285840" y="30960"/>
            <a:ext cx="8572320" cy="612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Para el cumplimiento de sus atribuciones, las autoridades investigadoras llevarán de oficio las auditorías o investigaciones debidamente fundadas y motivadas.</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personas físicas o morales, públicas o privadas, que sean sujetos de investigación por probables irregularidades cometidas en el ejercicio de sus funciones, deberán atender los requerimientos que, debidamente fundados y motivados, les formulen las Autoridades Investigadoras.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214200" y="232560"/>
            <a:ext cx="8643960" cy="5943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Calibri"/>
              </a:rPr>
              <a:t>La Autoridad Investigadora otorgará un plazo de cinco hasta quince días hábiles para la atención de sus requerimientos, sin perjuicio de poder ampliarlo por causas debidamente justificadas, cuando así lo soliciten los interesados. Esta ampliación no podrá exceder en ningún caso la mitad del plazo previsto originalment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Calibri"/>
              </a:rPr>
              <a:t>Los Órganos del Estado a los que se les formule requerimiento de información, tendrán la obligación de proporcionarla en el mismo plazo a que se refiere el párrafo anter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214200" y="29160"/>
            <a:ext cx="8715600" cy="6328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CAPÍTULO I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ea typeface="Arial"/>
              </a:rPr>
              <a:t>AUTORIDADES COMPETENTES PARA INTERPRETAR Y APLICAR LA PRESENTE LE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En el ámbito de su competencia, serán:</a:t>
            </a:r>
            <a:endParaRPr b="0" lang="en-US" sz="3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La Secretaría; </a:t>
            </a:r>
            <a:endParaRPr b="0" lang="en-US" sz="3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Los Órganos Internos de Control; </a:t>
            </a:r>
            <a:endParaRPr b="0" lang="en-US" sz="3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La Auditoría Superior; </a:t>
            </a:r>
            <a:endParaRPr b="0" lang="en-US" sz="3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El Tribunal; y, </a:t>
            </a:r>
            <a:endParaRPr b="0" lang="en-US" sz="3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El Consejo del Poder Judicial del Estado de Michoacán.</a:t>
            </a:r>
            <a:endParaRPr b="0" lang="en-US" sz="3500" spc="-1" strike="noStrike">
              <a:solidFill>
                <a:srgbClr val="000000"/>
              </a:solidFill>
              <a:latin typeface="Arial"/>
            </a:endParaRPr>
          </a:p>
        </p:txBody>
      </p:sp>
      <p:sp>
        <p:nvSpPr>
          <p:cNvPr id="51" name="3 Rectángulo"/>
          <p:cNvSpPr/>
          <p:nvPr/>
        </p:nvSpPr>
        <p:spPr>
          <a:xfrm>
            <a:off x="5286240" y="6000840"/>
            <a:ext cx="3929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7 - 12 de la LRA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214200" y="253800"/>
            <a:ext cx="8715600" cy="5788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Las Autoridades investigadoras podrán hacer uso de las siguientes medidas para hacer cumplir sus determinaciones:</a:t>
            </a:r>
            <a:endParaRPr b="0" lang="en-US" sz="3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ea typeface="Arial"/>
              </a:rPr>
              <a:t>I. Multa hasta por la cantidad equivalente de cien a ciento cincuenta veces el valor diario de la Unidad de Medida y Actualización, la cual podrá duplicarse o triplicarse en cada ocasión, hasta alcanzar dos mil veces el valor diario de la Unidad de Medida y Actualización, en caso de renuencia al cumplimiento del mandato respectiv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Rectángulo"/>
          <p:cNvSpPr/>
          <p:nvPr/>
        </p:nvSpPr>
        <p:spPr>
          <a:xfrm>
            <a:off x="285840" y="142920"/>
            <a:ext cx="8643960" cy="612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II. Solicitar el auxilio de la fuerza pública de cualquier orden de gobierno, los que deberán de atender de inmediato el requerimiento de la autoridad; o, </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III. Arresto hasta por treinta y seis horas.</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Concluidas las diligencias de investigación, las Autoridades investigadoras procederán al análisis de los hechos, así como de la información recabada, a efecto de determinar la existencia o inexistencia de actos u omisiones, en su caso, calificarla como grave o no grav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214200" y="1941840"/>
            <a:ext cx="8715600" cy="1694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CAPÍTULO IV (SIC)</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IMPUGNACIÓN DE LA CALIFICACIÓN DE FALTAS NO GRAVES</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148"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102 - 110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14200" y="131040"/>
            <a:ext cx="8715600" cy="612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 calificación de los hechos como Faltas Administrativas no graves que realicen las Autoridades investigadoras, será notificada al Denunciante, cuando éste fuere identificable.</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 calificación y la abstención podrán ser impugnadas, en su caso, por el denunciante, mediante el recurso de inconformidad conforme al presente Capítulo. La presentación del recurso tendrá como efecto que no se inicie el procedimiento de responsabilidad administrativa hasta en tanto éste sea resuelt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285840" y="99360"/>
            <a:ext cx="8572320" cy="5622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Arial"/>
                <a:ea typeface="Arial"/>
              </a:rPr>
              <a:t>TÍTULO SEGUNDO</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Arial"/>
                <a:ea typeface="Arial"/>
              </a:rPr>
              <a:t>DEL PROCEDIMIENTO DE RESPONSABILIDAD ADMINISTRATIVA</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Arial"/>
                <a:ea typeface="Arial"/>
              </a:rPr>
              <a:t>CAPÍTULO I</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Arial"/>
                <a:ea typeface="Arial"/>
              </a:rPr>
              <a:t>DISPOSICIONES COMUNES AL PROCEDIMIENTO DE RESPONSABILIDAD ADMINISTRATIVA</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Arial"/>
                <a:ea typeface="Arial"/>
              </a:rPr>
              <a:t>SECCIÓN PRIMERA</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Arial"/>
                <a:ea typeface="Arial"/>
              </a:rPr>
              <a:t>PRINCIPIOS, INTERRUPCIÓN DE LA PRESCRIPCIÓN, PARTES Y AUTORIZACIONES</a:t>
            </a:r>
            <a:r>
              <a:rPr b="0" lang="es-MX" sz="3300" spc="-1" strike="noStrike">
                <a:solidFill>
                  <a:srgbClr val="000000"/>
                </a:solidFill>
                <a:latin typeface="Arial"/>
                <a:ea typeface="Arial"/>
              </a:rPr>
              <a:t> </a:t>
            </a:r>
            <a:endParaRPr b="0" lang="en-US" sz="3300" spc="-1" strike="noStrike">
              <a:solidFill>
                <a:srgbClr val="000000"/>
              </a:solidFill>
              <a:latin typeface="Arial"/>
            </a:endParaRPr>
          </a:p>
        </p:txBody>
      </p:sp>
      <p:sp>
        <p:nvSpPr>
          <p:cNvPr id="151" name="3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111 - 119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214200" y="136080"/>
            <a:ext cx="8643960" cy="5622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n los procedimientos de responsabilidad administrativa deberán observarse los principios de legalidad, presunción de inocencia, imparcialidad, objetividad, congruencia, exhaustividad, verdad material y respeto a los derechos humanos. </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l procedimiento de responsabilidad administrativa dará inicio cuando las autoridades substanciadoras, en el ámbito de su competencia, admitan el Informe de Presunta Responsabilidad Administrativa.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214200" y="4320"/>
            <a:ext cx="8715600" cy="1161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SEGUND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MEDIOS DE APREMIO</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154" name="2 Rectángulo"/>
          <p:cNvSpPr/>
          <p:nvPr/>
        </p:nvSpPr>
        <p:spPr>
          <a:xfrm>
            <a:off x="4965840" y="5886360"/>
            <a:ext cx="3892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120 - 122 LRAEM).</a:t>
            </a:r>
            <a:endParaRPr b="0" lang="en-US" sz="2000" spc="-1" strike="noStrike">
              <a:solidFill>
                <a:srgbClr val="000000"/>
              </a:solidFill>
              <a:latin typeface="Arial"/>
            </a:endParaRPr>
          </a:p>
        </p:txBody>
      </p:sp>
      <p:sp>
        <p:nvSpPr>
          <p:cNvPr id="155" name="Rectangle 1"/>
          <p:cNvSpPr/>
          <p:nvPr/>
        </p:nvSpPr>
        <p:spPr>
          <a:xfrm>
            <a:off x="214200" y="1141560"/>
            <a:ext cx="8643960" cy="5119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autoridades substanciadoras o resolutoras, podrán hacer uso de los siguientes medios de apremio para hacer cumplir sus determinaciones: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Multa de cien a ciento cincuenta veces el valor diario de la Unidad de Medida y Actualización, la cual podrá duplicarse o triplicarse en cada ocasión, hasta alcanzar dos mil veces el valor diario de la Unidad de Medida y Actualización.</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1 Rectángulo"/>
          <p:cNvSpPr/>
          <p:nvPr/>
        </p:nvSpPr>
        <p:spPr>
          <a:xfrm>
            <a:off x="285840" y="214200"/>
            <a:ext cx="8572320" cy="612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Arresto hasta por treinta y seis horas; y,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l auxilio de la fuerza pública, los que deberán de atender de inmediato el requerimiento de la autoridad.</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medidas de apremio podrán ser decretadas sin seguir rigurosamente el orden en que han sido enlistadas en el artículo que antecede, o bien, decretar la aplicación de más de una de ellas, para lo cual la autoridad deberá ponderar las circunstancias del cas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285840" y="2192040"/>
            <a:ext cx="8572320" cy="1161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TERCER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MEDIDAS CAUTELARES</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158" name="2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123 - 129 Ley de Responsabilidades Administrativas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285840" y="30960"/>
            <a:ext cx="8643960" cy="612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autoridades investigadoras podrán solicitar a la Autoridad Substanciadora o resolutora, que decrete aquellas medidas cautelares que: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viten el ocultamiento o destrucción de pruebas;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Impidan la continuación de los efectos perjudiciales de la presunta Falta Administrativa;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viten la obstaculización del adecuado desarrollo del procedimiento de responsabilidad administrativa; y,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214200" y="31680"/>
            <a:ext cx="8715600" cy="6430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Los Órganos Internos de Control serán competentes para: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Implementar los mecanismos internos que prevengan actos u omisiones que pudieran constituir responsabilidades administrativas.</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Revisar el ingreso, egreso, manejo, custodia y aplicación de recursos públicos y participaciones federales, así como de recursos públicos locales; y,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Presentar denuncias por hechos que las leyes señalen como delitos ante la Fiscalía Especializada en materia de delitos relacionados con hechos de corrupció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Rectángulo"/>
          <p:cNvSpPr/>
          <p:nvPr/>
        </p:nvSpPr>
        <p:spPr>
          <a:xfrm>
            <a:off x="285840" y="-122400"/>
            <a:ext cx="8572320" cy="662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viten un daño irreparable a la Hacienda Pública del Estado, Municipio o al Patrimonio de los Órganos del Estado. </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No se podrán decretar medidas cautelares en los casos en que se cause un perjuicio al interés social o se contravengan disposiciones de orden público.</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Podrán ser decretadas como medidas cautelares las siguientes: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Suspensión temporal del servidor público señalado como presuntamente responsable del empleo, cargo o comisión que desempeñe.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214200" y="-109440"/>
            <a:ext cx="8643960" cy="6627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xhibición de documentos originales relacionados directamente con la probable Falta Administrativa; </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Apercibimiento de multa de cien y hasta ciento cincuenta veces el valor diario de la Unidad de Medida y Actualización.</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Embargo precautorio de bienes; aseguramiento o intervención precautoria de negociaciones.</a:t>
            </a:r>
            <a:endParaRPr b="0" lang="en-US" sz="33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que sean necesarias para evitar un daño irreparable a la Hacienda Pública Estatal, municipal o al patrimonio de los Órganos del Estad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214200" y="120240"/>
            <a:ext cx="8643960" cy="1161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CUART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A PRUEBAS</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163" name="2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130 - 143 Ley de Responsabilidades Administrativas del Estado de Michoacán de Ocampo).</a:t>
            </a:r>
            <a:endParaRPr b="0" lang="en-US" sz="2000" spc="-1" strike="noStrike">
              <a:solidFill>
                <a:srgbClr val="000000"/>
              </a:solidFill>
              <a:latin typeface="Arial"/>
            </a:endParaRPr>
          </a:p>
        </p:txBody>
      </p:sp>
      <p:sp>
        <p:nvSpPr>
          <p:cNvPr id="164" name="Rectangle 2"/>
          <p:cNvSpPr/>
          <p:nvPr/>
        </p:nvSpPr>
        <p:spPr>
          <a:xfrm>
            <a:off x="214200" y="1305720"/>
            <a:ext cx="8643960" cy="411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Para conocer la verdad de los hechos las autoridades resolutoras podrán valerse de cualquier persona o documento que hayan sido obtenidas lícitamente, ya sea que pertenezca a las partes o a terceros, y con pleno respeto a los derechos humanos, solo estará excluida la confesional a cargo de las partes por absolución de posiciones.</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1 Rectángulo"/>
          <p:cNvSpPr/>
          <p:nvPr/>
        </p:nvSpPr>
        <p:spPr>
          <a:xfrm>
            <a:off x="214200" y="179280"/>
            <a:ext cx="8715600" cy="562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pruebas serán valoradas atendiendo a las reglas de la lógica, la sana crítica y de la experiencia. </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Toda persona señalada como responsable de una Falta Administrativa tiene derecho a que se presuma su inocencia hasta que no se demuestre, más allá de toda duda razonable, su culpabilidad. Las autoridades investigadoras tendrán la carga de la prueba para demostrar la veracidad sobre los hechos que demuestren la existencia de tales faltas.</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285840" y="48600"/>
            <a:ext cx="8572320" cy="1161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QUINT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AS PRUEBAS EN PARTICULAR</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167" name="2 Rectángulo"/>
          <p:cNvSpPr/>
          <p:nvPr/>
        </p:nvSpPr>
        <p:spPr>
          <a:xfrm>
            <a:off x="5143680" y="5958000"/>
            <a:ext cx="3786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144 - 181 LRAEM.)</a:t>
            </a:r>
            <a:endParaRPr b="0" lang="en-US" sz="2000" spc="-1" strike="noStrike">
              <a:solidFill>
                <a:srgbClr val="000000"/>
              </a:solidFill>
              <a:latin typeface="Arial"/>
            </a:endParaRPr>
          </a:p>
        </p:txBody>
      </p:sp>
      <p:sp>
        <p:nvSpPr>
          <p:cNvPr id="168" name="Rectangle 2"/>
          <p:cNvSpPr/>
          <p:nvPr/>
        </p:nvSpPr>
        <p:spPr>
          <a:xfrm>
            <a:off x="214200" y="947160"/>
            <a:ext cx="8715600" cy="545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La prueba testimonial estará a cargo de todo aquél que tenga conocimiento de los hechos que las partes deban probar, quienes, por ese hecho, se encuentran obligados a rendir testimonio.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Quienes por motivos de edad o salud no pudieran presentarse a rendir su testimonio ante la Autoridad Resolutora, se les tomará su testificación en su domicilio o en el lugar donde se encuentren, pudiendo asistir las partes a dicha diligenci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1 Rectángulo"/>
          <p:cNvSpPr/>
          <p:nvPr/>
        </p:nvSpPr>
        <p:spPr>
          <a:xfrm>
            <a:off x="214200" y="-71280"/>
            <a:ext cx="8572680" cy="643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 considerarlo pertinente, la Autoridad Resolutora del asunto podrá solicitar la colaboración de la Procuraduría General de Justicia del Estado, o bien, de instituciones públicas de educación superior, para que, a través de peritos en la ciencia, arte, técnica, industria, oficio o profesión adscritos a tales instituciones, emitan su dictamen sobre aquellas cuestiones o puntos controvertidos por las partes en el desahogo de la prueba pericial, o sobre aquellos aspectos que estime necesarios para el esclarecimiento de los hech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285840" y="48600"/>
            <a:ext cx="8643960" cy="1161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SEXT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OS INCIDENTES</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171" name="2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182 - 184 Ley de Responsabilidades Administrativas del Estado de Michoacán de Ocampo).</a:t>
            </a:r>
            <a:endParaRPr b="0" lang="en-US" sz="2000" spc="-1" strike="noStrike">
              <a:solidFill>
                <a:srgbClr val="000000"/>
              </a:solidFill>
              <a:latin typeface="Arial"/>
            </a:endParaRPr>
          </a:p>
        </p:txBody>
      </p:sp>
      <p:sp>
        <p:nvSpPr>
          <p:cNvPr id="172" name="3 Rectángulo"/>
          <p:cNvSpPr/>
          <p:nvPr/>
        </p:nvSpPr>
        <p:spPr>
          <a:xfrm>
            <a:off x="214200" y="1285920"/>
            <a:ext cx="8643960" cy="41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Aquellos incidentes que no tengan señalado una tramitación especial se promoverán mediante un escrito de cada parte, y tres días para resolver. En caso de que se ofrezcan pruebas, se hará en el escrito de presentación respectivo. Si tales pruebas no tienen relación con los hechos controvertidos en el incidente, o bien,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1 Rectángulo"/>
          <p:cNvSpPr/>
          <p:nvPr/>
        </p:nvSpPr>
        <p:spPr>
          <a:xfrm>
            <a:off x="285840" y="285840"/>
            <a:ext cx="8643960" cy="596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Arial"/>
                <a:ea typeface="Arial"/>
              </a:rPr>
              <a:t>si la materia del incidente solo versa sobre puntos de derecho, la Autoridad Substanciadora o resolutora del asunto, según sea el caso, desechará las pruebas ofrecidas. En caso de admitir las pruebas se fijará una audiencia dentro de los diez días hábiles siguientes a la admisión del incidente donde se recibirán las pruebas, se escucharán los alegatos de las partes y se les citará para oír la resolución que corresponda.</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214200" y="48600"/>
            <a:ext cx="8715600" cy="1161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SÉPTIM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A ACUMULACIÓN</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175" name="2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185 - 186 Ley de Responsabilidades Administrativas del Estado de Michoacán de Ocampo).</a:t>
            </a:r>
            <a:endParaRPr b="0" lang="en-US" sz="2000" spc="-1" strike="noStrike">
              <a:solidFill>
                <a:srgbClr val="000000"/>
              </a:solidFill>
              <a:latin typeface="Arial"/>
            </a:endParaRPr>
          </a:p>
        </p:txBody>
      </p:sp>
      <p:sp>
        <p:nvSpPr>
          <p:cNvPr id="176" name="Rectangle 2"/>
          <p:cNvSpPr/>
          <p:nvPr/>
        </p:nvSpPr>
        <p:spPr>
          <a:xfrm>
            <a:off x="214200" y="1235880"/>
            <a:ext cx="8715600" cy="4480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La acumulación será procedente: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I. Cuando a dos o más personas se les atribuya la comisión de una o más Faltas Administrativas que se encuentren relacionadas entre sí.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II. Cuando se trate de procedimientos de responsabilidad administrativa donde se imputen dos a más Faltas Administrativas a la misma perso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214200" y="48600"/>
            <a:ext cx="8715600" cy="1161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SECCIÓN OCTAVA</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500" spc="-1" strike="noStrike">
                <a:solidFill>
                  <a:srgbClr val="000000"/>
                </a:solidFill>
                <a:latin typeface="Arial"/>
                <a:ea typeface="Arial"/>
              </a:rPr>
              <a:t>DE LAS NOTIFICACIONES</a:t>
            </a:r>
            <a:r>
              <a:rPr b="0" lang="es-MX" sz="3500" spc="-1" strike="noStrike">
                <a:solidFill>
                  <a:srgbClr val="000000"/>
                </a:solidFill>
                <a:latin typeface="Arial"/>
                <a:ea typeface="Arial"/>
              </a:rPr>
              <a:t> </a:t>
            </a:r>
            <a:endParaRPr b="0" lang="en-US" sz="3500" spc="-1" strike="noStrike">
              <a:solidFill>
                <a:srgbClr val="000000"/>
              </a:solidFill>
              <a:latin typeface="Arial"/>
            </a:endParaRPr>
          </a:p>
        </p:txBody>
      </p:sp>
      <p:sp>
        <p:nvSpPr>
          <p:cNvPr id="178" name="2 Rectángulo"/>
          <p:cNvSpPr/>
          <p:nvPr/>
        </p:nvSpPr>
        <p:spPr>
          <a:xfrm>
            <a:off x="108000" y="564372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s 187 - 193 Ley de Responsabilidades Administrativas del Estado de Michoacán de Ocampo).</a:t>
            </a:r>
            <a:endParaRPr b="0" lang="en-US" sz="2000" spc="-1" strike="noStrike">
              <a:solidFill>
                <a:srgbClr val="000000"/>
              </a:solidFill>
              <a:latin typeface="Arial"/>
            </a:endParaRPr>
          </a:p>
        </p:txBody>
      </p:sp>
      <p:sp>
        <p:nvSpPr>
          <p:cNvPr id="179" name="Rectangle 2"/>
          <p:cNvSpPr/>
          <p:nvPr/>
        </p:nvSpPr>
        <p:spPr>
          <a:xfrm>
            <a:off x="214200" y="1514160"/>
            <a:ext cx="8715600" cy="3611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notificaciones se tendrán por hechas a partir del día hábil siguiente en que surtan sus efectos. </a:t>
            </a:r>
            <a:endParaRPr b="0" lang="en-US" sz="3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00000"/>
                </a:solidFill>
                <a:latin typeface="Arial"/>
                <a:ea typeface="Arial"/>
              </a:rPr>
              <a:t>Las notificaciones podrán ser hechas a las partes personalmente o por los estrados de la Autoridad Substanciadora o, en su caso, de la resolutora.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8:56:51Z</dcterms:created>
  <dc:creator>Lennon</dc:creator>
  <dc:description/>
  <dc:language>en-US</dc:language>
  <cp:lastModifiedBy>Lenin</cp:lastModifiedBy>
  <dcterms:modified xsi:type="dcterms:W3CDTF">2018-10-17T23:39:29Z</dcterms:modified>
  <cp:revision>881</cp:revision>
  <dc:subject/>
  <dc:title>Obligacion ASM y Ayuntamientos</dc:title>
</cp:coreProperties>
</file>