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pic>
        <p:nvPicPr>
          <p:cNvPr id="2" name="Picture 8" descr="pie02"/>
          <p:cNvPicPr/>
          <p:nvPr/>
        </p:nvPicPr>
        <p:blipFill>
          <a:blip r:embed="rId2"/>
          <a:stretch/>
        </p:blipFill>
        <p:spPr>
          <a:xfrm>
            <a:off x="0" y="6342120"/>
            <a:ext cx="9144000" cy="51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457200" y="1052640"/>
            <a:ext cx="8229600" cy="3960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Arial"/>
              </a:rPr>
              <a:t>OBLIGACIONES Y/O ATRIBUCIONES DEL </a:t>
            </a:r>
            <a:endParaRPr b="0" lang="en-US" sz="4400" spc="-1" strike="noStrike">
              <a:solidFill>
                <a:srgbClr val="000000"/>
              </a:solidFill>
              <a:latin typeface="Constanti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Arial"/>
              </a:rPr>
              <a:t>CONTRALOR MUNICIPAL</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2 Rectángulo"/>
          <p:cNvSpPr/>
          <p:nvPr/>
        </p:nvSpPr>
        <p:spPr>
          <a:xfrm>
            <a:off x="285840" y="-23760"/>
            <a:ext cx="8643960" cy="646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resentar trimestralmente al Ayuntamiento, un informe de las actividades de la Contraloría Municipal, señalando las irregularidades que se hayan detectado en el ejercicio de su función;</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Verificar que la Administración Pública Municipal, cuente con el registro e inventario actualizado de los bienes muebles e inmuebles del municipi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285840" y="30600"/>
            <a:ext cx="8643960" cy="6295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00000"/>
                </a:solidFill>
                <a:latin typeface="Arial"/>
                <a:ea typeface="Arial"/>
              </a:rPr>
              <a:t>Vigilar que las adquisiciones, enajenaciones y arrendamientos de los bienes muebles e inmuebles que realice el Ayuntamiento y la prestación de Servicios Públicos Municipales, se supediten a lo establecido por esta Ley;</a:t>
            </a:r>
            <a:endParaRPr b="0" lang="en-US" sz="37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00000"/>
                </a:solidFill>
                <a:latin typeface="Arial"/>
                <a:ea typeface="Arial"/>
              </a:rPr>
              <a:t>Vigilar que la obra pública municipal se ajuste a las disposiciones de la Ley de Obra Pública en el Estado de Michoacán y demás disposiciones aplicables en la materia;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285840" y="230040"/>
            <a:ext cx="8572320" cy="5886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Establecer y operar un sistema de quejas, denuncias y sugerencias;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articipar en la entrega-recepción de las dependencias y entidades de la Administración Pública Municipal;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Verificar los estados financieros de la Tesorería Municipal, así como revisar la integración, la remisión en tiempo y la de corregir observaciones de la cuenta pública municipa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214200" y="-42840"/>
            <a:ext cx="86439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Vigilar el comportamiento de la situación patrimonial de los servidores públicos municipales, de acuerdo a la Ley de Responsabilidades Administrativas; </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Vigilar el desarrollo administrativo de las dependencias y entidades de la Administración Pública Municipal, a fin de que en el ejercicio de sus funciones apliquen con eficiencia los recursos humanos y patrimonial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2 Rectángulo"/>
          <p:cNvSpPr/>
          <p:nvPr/>
        </p:nvSpPr>
        <p:spPr>
          <a:xfrm>
            <a:off x="214200" y="345960"/>
            <a:ext cx="8715600" cy="588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Vigilar que el desempeño de las funciones de los servidores públicos municipales se realice conforme a la Ley;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roponer al personal requerido para auxiliarlo en el desempeño de sus funciones, de acuerdo a las condiciones presupuestales del Municipio;</a:t>
            </a:r>
            <a:endParaRPr b="0" lang="en-US" sz="3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85840" y="-42840"/>
            <a:ext cx="86439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Vigilar, bajo su estricta responsabilidad, el cumplimiento de las disposiciones de la Ley de Planeación Hacendaria, Presupuesto, Gasto Público y Contabilidad Gubernamental del Estado, la Ley de Responsabilidades, por lo que concierne al ejercicio presupuestal en materia de servicios personales, de cuyas irregularidades deberá dar cuenta de manera inmediata a la Auditoría Superior de Michoacán;</a:t>
            </a:r>
            <a:endParaRPr b="0" lang="en-US" sz="3600" spc="-1" strike="noStrike">
              <a:solidFill>
                <a:srgbClr val="000000"/>
              </a:solidFill>
              <a:latin typeface="Arial"/>
            </a:endParaRPr>
          </a:p>
        </p:txBody>
      </p:sp>
      <p:sp>
        <p:nvSpPr>
          <p:cNvPr id="57" name="3 Rectángulo"/>
          <p:cNvSpPr/>
          <p:nvPr/>
        </p:nvSpPr>
        <p:spPr>
          <a:xfrm>
            <a:off x="108000" y="5935680"/>
            <a:ext cx="8785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Artículo 59 de la Ley Orgánica Municipal del Estado de Michoacán de Oca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4 Rectángulo"/>
          <p:cNvSpPr/>
          <p:nvPr/>
        </p:nvSpPr>
        <p:spPr>
          <a:xfrm>
            <a:off x="214200" y="285840"/>
            <a:ext cx="8572680" cy="557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ea typeface="Arial"/>
              </a:rPr>
              <a:t>Presentación.</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ea typeface="Arial"/>
              </a:rPr>
              <a:t>El presente curso va dirigido a los servidores públicos municipales de los Ayuntamientos, es una actividad cuyo objetivo es proporcionar las herramientas metodológicas que necesitarán para planear, elaborar, desarrollar y evaluar las actividades propias de manera sistemáti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Rectángulo"/>
          <p:cNvSpPr/>
          <p:nvPr/>
        </p:nvSpPr>
        <p:spPr>
          <a:xfrm>
            <a:off x="250920" y="5500800"/>
            <a:ext cx="86421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Capitulo VI artículo 57 de la Ley Orgánica Municipal).</a:t>
            </a:r>
            <a:endParaRPr b="0" lang="en-US" sz="2800" spc="-1" strike="noStrike">
              <a:solidFill>
                <a:srgbClr val="000000"/>
              </a:solidFill>
              <a:latin typeface="Arial"/>
            </a:endParaRPr>
          </a:p>
        </p:txBody>
      </p:sp>
      <p:sp>
        <p:nvSpPr>
          <p:cNvPr id="42" name="4 Rectángulo"/>
          <p:cNvSpPr/>
          <p:nvPr/>
        </p:nvSpPr>
        <p:spPr>
          <a:xfrm>
            <a:off x="214200" y="71280"/>
            <a:ext cx="8643960" cy="530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El control interno, evaluación municipal y desarrollo administrativo, estarán a cargo de la </a:t>
            </a:r>
            <a:r>
              <a:rPr b="1" lang="es-MX" sz="3800" spc="-1" strike="noStrike">
                <a:solidFill>
                  <a:srgbClr val="000000"/>
                </a:solidFill>
                <a:latin typeface="Arial"/>
                <a:ea typeface="Arial"/>
              </a:rPr>
              <a:t>Contraloría Municipal</a:t>
            </a:r>
            <a:r>
              <a:rPr b="0" lang="es-MX" sz="3800" spc="-1" strike="noStrike">
                <a:solidFill>
                  <a:srgbClr val="000000"/>
                </a:solidFill>
                <a:latin typeface="Arial"/>
                <a:ea typeface="Arial"/>
              </a:rPr>
              <a:t>, cuyo titular será nombrado a propuesta de los miembros del Ayuntamiento, con la aprobación de las dos terceras partes. El nombramiento se llevará a cabo durante los primeros treinta días de gobiern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214200" y="-65880"/>
            <a:ext cx="8643960" cy="6465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ara asumir el cargo de Contralor Municipal, se deben reunir los siguientes requisitos: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Ser ciudadano michoacano en pleno ejercicio de sus derechos políticos y civiles;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Ser profesionista en las áreas contables, jurídicas, económicas o administrativas o, tener experiencia en alguna de ellas de cuando menos dos años;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107640" y="907560"/>
            <a:ext cx="8785080" cy="3816360"/>
          </a:xfrm>
          <a:prstGeom prst="rect">
            <a:avLst/>
          </a:prstGeom>
          <a:noFill/>
          <a:ln w="0">
            <a:noFill/>
          </a:ln>
        </p:spPr>
        <p:txBody>
          <a:bodyPr anchor="t">
            <a:norm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ea typeface="Calibri"/>
              </a:rPr>
              <a:t>No haber sido dirigente de partido político ni candidato durante la elección del Ayuntamiento en funciones; y, </a:t>
            </a:r>
            <a:endParaRPr b="0" lang="en-US" sz="4000" spc="-1" strike="noStrike">
              <a:solidFill>
                <a:srgbClr val="000000"/>
              </a:solidFill>
              <a:latin typeface="Constanti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ea typeface="Calibri"/>
              </a:rPr>
              <a:t>No haber sido condenado por delito doloso. </a:t>
            </a:r>
            <a:endParaRPr b="0" lang="en-US" sz="4000" spc="-1" strike="noStrike">
              <a:solidFill>
                <a:srgbClr val="000000"/>
              </a:solidFill>
              <a:latin typeface="Constantia"/>
            </a:endParaRPr>
          </a:p>
        </p:txBody>
      </p:sp>
      <p:sp>
        <p:nvSpPr>
          <p:cNvPr id="45" name="3 Rectángulo"/>
          <p:cNvSpPr/>
          <p:nvPr/>
        </p:nvSpPr>
        <p:spPr>
          <a:xfrm>
            <a:off x="179280" y="5300640"/>
            <a:ext cx="8817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Artículo 58 de la Ley Orgánica Municipal del Estado de Michoacán de Ocam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4 Rectángulo"/>
          <p:cNvSpPr/>
          <p:nvPr/>
        </p:nvSpPr>
        <p:spPr>
          <a:xfrm>
            <a:off x="285840" y="0"/>
            <a:ext cx="8572320" cy="588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ara la selección de los integrantes de los Órganos Internos de Control se deberán observar, además de los requisitos establecidos para su nombramiento, un sistema que garantice la igualdad de oportunidades en el acceso a la función pública con base en el mérito y los mecanismos más adecuados y eficientes para su adecuada profesionalización,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2 Rectángulo"/>
          <p:cNvSpPr/>
          <p:nvPr/>
        </p:nvSpPr>
        <p:spPr>
          <a:xfrm>
            <a:off x="214200" y="158760"/>
            <a:ext cx="8643960" cy="47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atrayendo a los mejores candidatos para ocupar los puestos a través de procedimientos transparentes, objetivos y equitativos.</a:t>
            </a:r>
            <a:endParaRPr b="0" lang="en-US" sz="3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Los titulares de los Órganos Internos de Control, serán nombrados en términos de la Constitución y las leyes respectivas.</a:t>
            </a:r>
            <a:endParaRPr b="0" lang="en-US" sz="3800" spc="-1" strike="noStrike">
              <a:solidFill>
                <a:srgbClr val="000000"/>
              </a:solidFill>
              <a:latin typeface="Arial"/>
            </a:endParaRPr>
          </a:p>
        </p:txBody>
      </p:sp>
      <p:sp>
        <p:nvSpPr>
          <p:cNvPr id="48" name="3 Rectángulo"/>
          <p:cNvSpPr/>
          <p:nvPr/>
        </p:nvSpPr>
        <p:spPr>
          <a:xfrm>
            <a:off x="250920" y="5643720"/>
            <a:ext cx="87850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Artículo 18 de la Ley de Responsabilidades Administrativas del Estado de Michoacán de Ocamp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142920" y="27000"/>
            <a:ext cx="8858160" cy="5886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Son atribuciones del Contralor Municipal: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resentar al Ayuntamiento un Plan de Trabajo Anual en el primer trimestre del año;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Proponer y aplicar normas y criterios en materia de control y evaluación que deban observar las dependencias y entidades de la Administración Pública Municipa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2 Rectángulo"/>
          <p:cNvSpPr/>
          <p:nvPr/>
        </p:nvSpPr>
        <p:spPr>
          <a:xfrm>
            <a:off x="357120" y="285840"/>
            <a:ext cx="8501040" cy="47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Verificar el cumplimiento del Plan de Desarrollo Municipal y sus programas; </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Realizar auditorias periódicamente a las dependencias y entidades de la Administración Pública Municipal;</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ea typeface="Arial"/>
              </a:rPr>
              <a:t>Vigilar la correcta aplicación del gasto público;</a:t>
            </a:r>
            <a:endParaRPr b="0" lang="en-US" sz="3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8:56:51Z</dcterms:created>
  <dc:creator>Lennon</dc:creator>
  <dc:description/>
  <dc:language>en-US</dc:language>
  <cp:lastModifiedBy>Lenin</cp:lastModifiedBy>
  <dcterms:modified xsi:type="dcterms:W3CDTF">2018-10-17T23:32:01Z</dcterms:modified>
  <cp:revision>843</cp:revision>
  <dc:subject/>
  <dc:title>Obligacion ASM y Ayuntamientos</dc:title>
</cp:coreProperties>
</file>